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243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359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127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4243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2359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55280" y="-360"/>
            <a:ext cx="720108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4243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59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127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4243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2359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655280" y="-360"/>
            <a:ext cx="720108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372360" y="6381720"/>
            <a:ext cx="2771640" cy="476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723160" y="6453360"/>
            <a:ext cx="277920" cy="2887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40" y="-27000"/>
            <a:ext cx="5112000" cy="31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17524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228132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8"/>
          <a:stretch/>
        </p:blipFill>
        <p:spPr>
          <a:xfrm>
            <a:off x="281160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9"/>
          <a:stretch/>
        </p:blipFill>
        <p:spPr>
          <a:xfrm>
            <a:off x="33400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0"/>
          <a:stretch/>
        </p:blipFill>
        <p:spPr>
          <a:xfrm>
            <a:off x="387036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1"/>
          <a:stretch/>
        </p:blipFill>
        <p:spPr>
          <a:xfrm>
            <a:off x="439884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2"/>
          <a:stretch/>
        </p:blipFill>
        <p:spPr>
          <a:xfrm>
            <a:off x="492912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3"/>
          <a:stretch/>
        </p:blipFill>
        <p:spPr>
          <a:xfrm>
            <a:off x="545796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4"/>
          <a:stretch/>
        </p:blipFill>
        <p:spPr>
          <a:xfrm>
            <a:off x="59878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5"/>
          <a:stretch/>
        </p:blipFill>
        <p:spPr>
          <a:xfrm>
            <a:off x="651672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6"/>
          <a:stretch/>
        </p:blipFill>
        <p:spPr>
          <a:xfrm>
            <a:off x="704700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7"/>
          <a:stretch/>
        </p:blipFill>
        <p:spPr>
          <a:xfrm>
            <a:off x="75754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8"/>
          <a:stretch/>
        </p:blipFill>
        <p:spPr>
          <a:xfrm>
            <a:off x="810576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19"/>
          <a:stretch/>
        </p:blipFill>
        <p:spPr>
          <a:xfrm>
            <a:off x="863604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20">
            <a:lum bright="100000"/>
          </a:blip>
          <a:stretch/>
        </p:blipFill>
        <p:spPr>
          <a:xfrm>
            <a:off x="4535640" y="7920"/>
            <a:ext cx="4608360" cy="3421080"/>
          </a:xfrm>
          <a:prstGeom prst="rect">
            <a:avLst/>
          </a:prstGeom>
          <a:ln w="0">
            <a:noFill/>
          </a:ln>
        </p:spPr>
      </p:pic>
      <p:sp>
        <p:nvSpPr>
          <p:cNvPr id="20" name=""/>
          <p:cNvSpPr/>
          <p:nvPr/>
        </p:nvSpPr>
        <p:spPr>
          <a:xfrm>
            <a:off x="6408720" y="6500880"/>
            <a:ext cx="273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21"/>
          <a:stretch/>
        </p:blipFill>
        <p:spPr>
          <a:xfrm>
            <a:off x="246240" y="69840"/>
            <a:ext cx="1089000" cy="112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8280360" y="2889360"/>
            <a:ext cx="71640" cy="396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5832360" y="4941720"/>
            <a:ext cx="71640" cy="191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6516720" y="3968640"/>
            <a:ext cx="71280" cy="288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0" y="-27000"/>
            <a:ext cx="565164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>
            <a:lum bright="100000"/>
          </a:blip>
          <a:stretch/>
        </p:blipFill>
        <p:spPr>
          <a:xfrm>
            <a:off x="4535640" y="7920"/>
            <a:ext cx="4608360" cy="342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7920000" y="2168640"/>
            <a:ext cx="73080" cy="468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7020000" y="1700280"/>
            <a:ext cx="73080" cy="5157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>
            <a:lum contrast="66000"/>
          </a:blip>
          <a:stretch/>
        </p:blipFill>
        <p:spPr>
          <a:xfrm>
            <a:off x="7488360" y="836640"/>
            <a:ext cx="71280" cy="602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18871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>
            <a:lum contrast="42000"/>
          </a:blip>
          <a:stretch/>
        </p:blipFill>
        <p:spPr>
          <a:xfrm>
            <a:off x="7848720" y="2025720"/>
            <a:ext cx="209520" cy="216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1">
            <a:lum contrast="36000"/>
          </a:blip>
          <a:stretch/>
        </p:blipFill>
        <p:spPr>
          <a:xfrm>
            <a:off x="5762520" y="4836960"/>
            <a:ext cx="206640" cy="212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>
            <a:lum contrast="36000"/>
          </a:blip>
          <a:stretch/>
        </p:blipFill>
        <p:spPr>
          <a:xfrm>
            <a:off x="6913440" y="1558800"/>
            <a:ext cx="27648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8209080" y="2781360"/>
            <a:ext cx="209520" cy="21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>
            <a:lum contrast="42000"/>
          </a:blip>
          <a:stretch/>
        </p:blipFill>
        <p:spPr>
          <a:xfrm>
            <a:off x="6443640" y="3824280"/>
            <a:ext cx="209520" cy="21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>
            <a:lum contrast="42000"/>
          </a:blip>
          <a:stretch/>
        </p:blipFill>
        <p:spPr>
          <a:xfrm>
            <a:off x="7380360" y="692280"/>
            <a:ext cx="282600" cy="288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4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4.png"/><Relationship Id="rId12" Type="http://schemas.openxmlformats.org/officeDocument/2006/relationships/image" Target="../media/image1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4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png"/><Relationship Id="rId12" Type="http://schemas.openxmlformats.org/officeDocument/2006/relationships/image" Target="../media/image4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799920"/>
            <a:ext cx="66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empus Sans ITC"/>
              </a:rPr>
              <a:t>I am Roy, this is my resume for job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225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beef4"/>
                </a:solidFill>
                <a:latin typeface="Tempus Sans ITC"/>
                <a:ea typeface="宋体"/>
              </a:rPr>
              <a:t>MY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808280"/>
            <a:ext cx="5869080" cy="865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1908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Introducing myself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4360" y="1125360"/>
            <a:ext cx="6577560" cy="609480"/>
            <a:chOff x="684360" y="1125360"/>
            <a:chExt cx="6577560" cy="609480"/>
          </a:xfrm>
        </p:grpSpPr>
        <p:grpSp>
          <p:nvGrpSpPr>
            <p:cNvPr id="117" name=""/>
            <p:cNvGrpSpPr/>
            <p:nvPr/>
          </p:nvGrpSpPr>
          <p:grpSpPr>
            <a:xfrm>
              <a:off x="1166760" y="1179360"/>
              <a:ext cx="6095160" cy="469800"/>
              <a:chOff x="1166760" y="1179360"/>
              <a:chExt cx="6095160" cy="469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1">
                <a:lum contrast="30000"/>
              </a:blip>
              <a:stretch/>
            </p:blipFill>
            <p:spPr>
              <a:xfrm>
                <a:off x="1166760" y="1179360"/>
                <a:ext cx="6095160" cy="4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166760" y="1179360"/>
                <a:ext cx="60951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empus Sans ITC"/>
                    <a:ea typeface="굴림"/>
                  </a:rPr>
                  <a:t>        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empus Sans ITC"/>
                    <a:ea typeface="굴림"/>
                  </a:rPr>
                  <a:t>My Basic Data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굴림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84360" y="1125360"/>
              <a:ext cx="717480" cy="609480"/>
              <a:chOff x="684360" y="1125360"/>
              <a:chExt cx="717480" cy="609480"/>
            </a:xfrm>
          </p:grpSpPr>
          <p:pic>
            <p:nvPicPr>
              <p:cNvPr id="121" name="" descr=""/>
              <p:cNvPicPr/>
              <p:nvPr/>
            </p:nvPicPr>
            <p:blipFill>
              <a:blip r:embed="rId2">
                <a:lum contrast="24000"/>
              </a:blip>
              <a:stretch/>
            </p:blipFill>
            <p:spPr>
              <a:xfrm>
                <a:off x="684360" y="1125360"/>
                <a:ext cx="7174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684360" y="1125360"/>
                <a:ext cx="717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4360" y="2637000"/>
            <a:ext cx="6577560" cy="609480"/>
            <a:chOff x="684360" y="2637000"/>
            <a:chExt cx="6577560" cy="609480"/>
          </a:xfrm>
        </p:grpSpPr>
        <p:grpSp>
          <p:nvGrpSpPr>
            <p:cNvPr id="124" name=""/>
            <p:cNvGrpSpPr/>
            <p:nvPr/>
          </p:nvGrpSpPr>
          <p:grpSpPr>
            <a:xfrm>
              <a:off x="1166760" y="2695680"/>
              <a:ext cx="6095160" cy="469800"/>
              <a:chOff x="1166760" y="2695680"/>
              <a:chExt cx="6095160" cy="469800"/>
            </a:xfrm>
          </p:grpSpPr>
          <p:pic>
            <p:nvPicPr>
              <p:cNvPr id="125" name="" descr=""/>
              <p:cNvPicPr/>
              <p:nvPr/>
            </p:nvPicPr>
            <p:blipFill>
              <a:blip r:embed="rId3">
                <a:lum contrast="30000"/>
              </a:blip>
              <a:stretch/>
            </p:blipFill>
            <p:spPr>
              <a:xfrm>
                <a:off x="1166760" y="2695680"/>
                <a:ext cx="6095160" cy="4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166760" y="2695680"/>
                <a:ext cx="60951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84360" y="2637000"/>
              <a:ext cx="717480" cy="609480"/>
              <a:chOff x="684360" y="2637000"/>
              <a:chExt cx="717480" cy="609480"/>
            </a:xfrm>
          </p:grpSpPr>
          <p:pic>
            <p:nvPicPr>
              <p:cNvPr id="128" name="" descr=""/>
              <p:cNvPicPr/>
              <p:nvPr/>
            </p:nvPicPr>
            <p:blipFill>
              <a:blip r:embed="rId4">
                <a:lum contrast="24000"/>
              </a:blip>
              <a:stretch/>
            </p:blipFill>
            <p:spPr>
              <a:xfrm>
                <a:off x="684360" y="2637000"/>
                <a:ext cx="7174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84360" y="2637000"/>
                <a:ext cx="717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684360" y="4941720"/>
            <a:ext cx="6577560" cy="609840"/>
            <a:chOff x="684360" y="4941720"/>
            <a:chExt cx="6577560" cy="609840"/>
          </a:xfrm>
        </p:grpSpPr>
        <p:grpSp>
          <p:nvGrpSpPr>
            <p:cNvPr id="131" name=""/>
            <p:cNvGrpSpPr/>
            <p:nvPr/>
          </p:nvGrpSpPr>
          <p:grpSpPr>
            <a:xfrm>
              <a:off x="1166760" y="5006880"/>
              <a:ext cx="6095160" cy="469800"/>
              <a:chOff x="1166760" y="5006880"/>
              <a:chExt cx="6095160" cy="469800"/>
            </a:xfrm>
          </p:grpSpPr>
          <p:pic>
            <p:nvPicPr>
              <p:cNvPr id="132" name="" descr=""/>
              <p:cNvPicPr/>
              <p:nvPr/>
            </p:nvPicPr>
            <p:blipFill>
              <a:blip r:embed="rId5">
                <a:lum contrast="30000"/>
              </a:blip>
              <a:stretch/>
            </p:blipFill>
            <p:spPr>
              <a:xfrm>
                <a:off x="1166760" y="5006880"/>
                <a:ext cx="6095160" cy="4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1166760" y="5006880"/>
                <a:ext cx="60951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empus Sans ITC"/>
                    <a:ea typeface="굴림"/>
                  </a:rPr>
                  <a:t>       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empus Sans ITC"/>
                    <a:ea typeface="굴림"/>
                  </a:rPr>
                  <a:t>Work Experienc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4360" y="4941720"/>
              <a:ext cx="717480" cy="609840"/>
              <a:chOff x="684360" y="4941720"/>
              <a:chExt cx="717480" cy="609840"/>
            </a:xfrm>
          </p:grpSpPr>
          <p:pic>
            <p:nvPicPr>
              <p:cNvPr id="135" name="" descr=""/>
              <p:cNvPicPr/>
              <p:nvPr/>
            </p:nvPicPr>
            <p:blipFill>
              <a:blip r:embed="rId6">
                <a:lum contrast="24000"/>
              </a:blip>
              <a:stretch/>
            </p:blipFill>
            <p:spPr>
              <a:xfrm>
                <a:off x="684360" y="4941720"/>
                <a:ext cx="717480" cy="6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84360" y="4941720"/>
                <a:ext cx="7174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647640" y="5734080"/>
            <a:ext cx="6577560" cy="609480"/>
            <a:chOff x="647640" y="5734080"/>
            <a:chExt cx="6577560" cy="609480"/>
          </a:xfrm>
        </p:grpSpPr>
        <p:grpSp>
          <p:nvGrpSpPr>
            <p:cNvPr id="138" name=""/>
            <p:cNvGrpSpPr/>
            <p:nvPr/>
          </p:nvGrpSpPr>
          <p:grpSpPr>
            <a:xfrm>
              <a:off x="1130040" y="5805360"/>
              <a:ext cx="6095160" cy="470160"/>
              <a:chOff x="1130040" y="5805360"/>
              <a:chExt cx="6095160" cy="470160"/>
            </a:xfrm>
          </p:grpSpPr>
          <p:pic>
            <p:nvPicPr>
              <p:cNvPr id="139" name="" descr=""/>
              <p:cNvPicPr/>
              <p:nvPr/>
            </p:nvPicPr>
            <p:blipFill>
              <a:blip r:embed="rId7">
                <a:lum contrast="30000"/>
              </a:blip>
              <a:stretch/>
            </p:blipFill>
            <p:spPr>
              <a:xfrm>
                <a:off x="1130040" y="5805360"/>
                <a:ext cx="6095160" cy="47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130040" y="5805360"/>
                <a:ext cx="609516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empus Sans ITC"/>
                    <a:ea typeface="굴림"/>
                  </a:rPr>
                  <a:t>       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empus Sans ITC"/>
                    <a:ea typeface="굴림"/>
                  </a:rPr>
                  <a:t>Goal of Futur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47640" y="5734080"/>
              <a:ext cx="717480" cy="609480"/>
              <a:chOff x="647640" y="5734080"/>
              <a:chExt cx="717480" cy="609480"/>
            </a:xfrm>
          </p:grpSpPr>
          <p:pic>
            <p:nvPicPr>
              <p:cNvPr id="142" name="" descr=""/>
              <p:cNvPicPr/>
              <p:nvPr/>
            </p:nvPicPr>
            <p:blipFill>
              <a:blip r:embed="rId8">
                <a:lum contrast="24000"/>
              </a:blip>
              <a:stretch/>
            </p:blipFill>
            <p:spPr>
              <a:xfrm>
                <a:off x="647640" y="5734080"/>
                <a:ext cx="7174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647640" y="5734080"/>
                <a:ext cx="717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5902200" y="6308640"/>
            <a:ext cx="3241800" cy="549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3240" y="267336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  <a:ea typeface="新細明體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  <a:ea typeface="新細明體"/>
              </a:rPr>
              <a:t>Educational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4360" y="1881360"/>
            <a:ext cx="6577560" cy="609480"/>
            <a:chOff x="684360" y="1881360"/>
            <a:chExt cx="6577560" cy="609480"/>
          </a:xfrm>
        </p:grpSpPr>
        <p:grpSp>
          <p:nvGrpSpPr>
            <p:cNvPr id="147" name=""/>
            <p:cNvGrpSpPr/>
            <p:nvPr/>
          </p:nvGrpSpPr>
          <p:grpSpPr>
            <a:xfrm>
              <a:off x="1166760" y="1935360"/>
              <a:ext cx="6095160" cy="469800"/>
              <a:chOff x="1166760" y="1935360"/>
              <a:chExt cx="6095160" cy="469800"/>
            </a:xfrm>
          </p:grpSpPr>
          <p:pic>
            <p:nvPicPr>
              <p:cNvPr id="148" name="" descr=""/>
              <p:cNvPicPr/>
              <p:nvPr/>
            </p:nvPicPr>
            <p:blipFill>
              <a:blip r:embed="rId10">
                <a:lum contrast="30000"/>
              </a:blip>
              <a:stretch/>
            </p:blipFill>
            <p:spPr>
              <a:xfrm>
                <a:off x="1166760" y="1935360"/>
                <a:ext cx="6095160" cy="4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1166760" y="1935360"/>
                <a:ext cx="60951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굴림"/>
                  </a:rPr>
                  <a:t>   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empus Sans ITC"/>
                    <a:ea typeface="굴림"/>
                  </a:rPr>
                  <a:t>My Family Condi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84360" y="1881360"/>
              <a:ext cx="717480" cy="609480"/>
              <a:chOff x="684360" y="1881360"/>
              <a:chExt cx="717480" cy="609480"/>
            </a:xfrm>
          </p:grpSpPr>
          <p:pic>
            <p:nvPicPr>
              <p:cNvPr id="151" name="" descr=""/>
              <p:cNvPicPr/>
              <p:nvPr/>
            </p:nvPicPr>
            <p:blipFill>
              <a:blip r:embed="rId11">
                <a:lum contrast="24000"/>
              </a:blip>
              <a:stretch/>
            </p:blipFill>
            <p:spPr>
              <a:xfrm>
                <a:off x="684360" y="1881360"/>
                <a:ext cx="7174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684360" y="1881360"/>
                <a:ext cx="717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684360" y="3357720"/>
            <a:ext cx="6577560" cy="609480"/>
            <a:chOff x="684360" y="3357720"/>
            <a:chExt cx="6577560" cy="609480"/>
          </a:xfrm>
        </p:grpSpPr>
        <p:grpSp>
          <p:nvGrpSpPr>
            <p:cNvPr id="154" name=""/>
            <p:cNvGrpSpPr/>
            <p:nvPr/>
          </p:nvGrpSpPr>
          <p:grpSpPr>
            <a:xfrm>
              <a:off x="1166760" y="3411720"/>
              <a:ext cx="6095160" cy="469800"/>
              <a:chOff x="1166760" y="3411720"/>
              <a:chExt cx="6095160" cy="469800"/>
            </a:xfrm>
          </p:grpSpPr>
          <p:pic>
            <p:nvPicPr>
              <p:cNvPr id="155" name="" descr=""/>
              <p:cNvPicPr/>
              <p:nvPr/>
            </p:nvPicPr>
            <p:blipFill>
              <a:blip r:embed="rId12">
                <a:lum contrast="30000"/>
              </a:blip>
              <a:stretch/>
            </p:blipFill>
            <p:spPr>
              <a:xfrm>
                <a:off x="1166760" y="3411720"/>
                <a:ext cx="6095160" cy="4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1166760" y="3411720"/>
                <a:ext cx="60951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empus Sans ITC"/>
                    <a:ea typeface="굴림"/>
                  </a:rPr>
                  <a:t>       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empus Sans ITC"/>
                    <a:ea typeface="굴림"/>
                  </a:rPr>
                  <a:t>My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empus Sans ITC"/>
                    <a:ea typeface="新細明體"/>
                  </a:rPr>
                  <a:t>Scholastic Recor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新細明體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84360" y="3357720"/>
              <a:ext cx="717480" cy="609480"/>
              <a:chOff x="684360" y="3357720"/>
              <a:chExt cx="717480" cy="609480"/>
            </a:xfrm>
          </p:grpSpPr>
          <p:pic>
            <p:nvPicPr>
              <p:cNvPr id="158" name="" descr=""/>
              <p:cNvPicPr/>
              <p:nvPr/>
            </p:nvPicPr>
            <p:blipFill>
              <a:blip r:embed="rId13">
                <a:lum contrast="24000"/>
              </a:blip>
              <a:stretch/>
            </p:blipFill>
            <p:spPr>
              <a:xfrm>
                <a:off x="684360" y="3357720"/>
                <a:ext cx="7174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684360" y="3357720"/>
                <a:ext cx="717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684360" y="4113360"/>
            <a:ext cx="6577560" cy="609480"/>
            <a:chOff x="684360" y="4113360"/>
            <a:chExt cx="6577560" cy="609480"/>
          </a:xfrm>
        </p:grpSpPr>
        <p:grpSp>
          <p:nvGrpSpPr>
            <p:cNvPr id="161" name=""/>
            <p:cNvGrpSpPr/>
            <p:nvPr/>
          </p:nvGrpSpPr>
          <p:grpSpPr>
            <a:xfrm>
              <a:off x="1166760" y="4167360"/>
              <a:ext cx="6095160" cy="469800"/>
              <a:chOff x="1166760" y="4167360"/>
              <a:chExt cx="6095160" cy="469800"/>
            </a:xfrm>
          </p:grpSpPr>
          <p:pic>
            <p:nvPicPr>
              <p:cNvPr id="162" name="" descr=""/>
              <p:cNvPicPr/>
              <p:nvPr/>
            </p:nvPicPr>
            <p:blipFill>
              <a:blip r:embed="rId14">
                <a:lum contrast="30000"/>
              </a:blip>
              <a:stretch/>
            </p:blipFill>
            <p:spPr>
              <a:xfrm>
                <a:off x="1166760" y="4167360"/>
                <a:ext cx="6095160" cy="4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1166760" y="4167360"/>
                <a:ext cx="60951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empus Sans ITC"/>
                    <a:ea typeface="굴림"/>
                  </a:rPr>
                  <a:t>       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empus Sans ITC"/>
                    <a:ea typeface="굴림"/>
                  </a:rPr>
                  <a:t>My Experience in school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84360" y="4113360"/>
              <a:ext cx="717480" cy="609480"/>
              <a:chOff x="684360" y="4113360"/>
              <a:chExt cx="717480" cy="60948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5">
                <a:lum contrast="24000"/>
              </a:blip>
              <a:stretch/>
            </p:blipFill>
            <p:spPr>
              <a:xfrm>
                <a:off x="684360" y="4113360"/>
                <a:ext cx="7174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684360" y="4113360"/>
                <a:ext cx="717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mpus Sans ITC"/>
              </a:rPr>
              <a:t>My Basic Data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315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My name: Zheng Yan, Lin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My habit: go hiking, seeing the movies, chatting with my friends, riding bicycle and enjoy natural scene, climbing mountains and listening to music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My birthday:76/12/02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My constellation: Sagittarius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My favorite actor: Vic Chou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My favorite color: blue, green, yellow and pink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ge: 22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Height: 5 feet, 4 inch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Weight: 118.8 pounds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Health: excellen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Marriage Condition: unmarried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6012000" y="6273720"/>
            <a:ext cx="31320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54200" y="1413000"/>
            <a:ext cx="5762520" cy="4286160"/>
          </a:xfrm>
          <a:prstGeom prst="ellipse">
            <a:avLst/>
          </a:prstGeom>
          <a:noFill/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535640" y="2241720"/>
            <a:ext cx="1584000" cy="118728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35640" y="3429000"/>
            <a:ext cx="2087280" cy="36036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55640" y="3429000"/>
            <a:ext cx="1979640" cy="43164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35640" y="1773360"/>
            <a:ext cx="0" cy="277164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24360" y="2421000"/>
            <a:ext cx="1511280" cy="100800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9280" y="283860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200480" y="3067200"/>
            <a:ext cx="736560" cy="76176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3348000" y="4648320"/>
            <a:ext cx="2381400" cy="1841400"/>
            <a:chOff x="3348000" y="4648320"/>
            <a:chExt cx="2381400" cy="1841400"/>
          </a:xfrm>
        </p:grpSpPr>
        <p:pic>
          <p:nvPicPr>
            <p:cNvPr id="179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>
              <a:off x="3348000" y="4648320"/>
              <a:ext cx="23814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348000" y="4648320"/>
              <a:ext cx="238140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804000" y="3141720"/>
            <a:ext cx="1511280" cy="1224000"/>
            <a:chOff x="6804000" y="3141720"/>
            <a:chExt cx="1511280" cy="122400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6804000" y="3141720"/>
              <a:ext cx="1511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804000" y="3141720"/>
              <a:ext cx="15112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My mother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She work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on the hotel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She is 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Housekeeper.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77080" y="1449360"/>
            <a:ext cx="1834920" cy="1332000"/>
            <a:chOff x="5977080" y="1449360"/>
            <a:chExt cx="1834920" cy="1332000"/>
          </a:xfrm>
        </p:grpSpPr>
        <p:pic>
          <p:nvPicPr>
            <p:cNvPr id="185" name="" descr=""/>
            <p:cNvPicPr/>
            <p:nvPr/>
          </p:nvPicPr>
          <p:blipFill>
            <a:blip r:embed="rId5"/>
            <a:stretch/>
          </p:blipFill>
          <p:spPr>
            <a:xfrm>
              <a:off x="5977080" y="1449360"/>
              <a:ext cx="183492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77080" y="1449360"/>
              <a:ext cx="183492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My Family Conditio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84360" y="2816280"/>
            <a:ext cx="1979640" cy="2016000"/>
            <a:chOff x="684360" y="2816280"/>
            <a:chExt cx="1979640" cy="2016000"/>
          </a:xfrm>
        </p:grpSpPr>
        <p:pic>
          <p:nvPicPr>
            <p:cNvPr id="189" name="" descr=""/>
            <p:cNvPicPr/>
            <p:nvPr/>
          </p:nvPicPr>
          <p:blipFill>
            <a:blip r:embed="rId6"/>
            <a:stretch/>
          </p:blipFill>
          <p:spPr>
            <a:xfrm>
              <a:off x="684360" y="2816280"/>
              <a:ext cx="197964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4360" y="2816280"/>
              <a:ext cx="197964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My firs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older sist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She graduat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National Cheng K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Graduate Schoo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She is the Chine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Teacher in sen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high schoo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11280" y="1160640"/>
            <a:ext cx="1727280" cy="1439640"/>
            <a:chOff x="1511280" y="1160640"/>
            <a:chExt cx="1727280" cy="1439640"/>
          </a:xfrm>
        </p:grpSpPr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1511280" y="1160640"/>
              <a:ext cx="172728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511280" y="1160640"/>
              <a:ext cx="172728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My seco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older sist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She is a stud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who studies i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Tunghai Univers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672000" y="873000"/>
            <a:ext cx="1836720" cy="1476360"/>
            <a:chOff x="3672000" y="873000"/>
            <a:chExt cx="1836720" cy="1476360"/>
          </a:xfrm>
        </p:grpSpPr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3672000" y="873000"/>
              <a:ext cx="18367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672000" y="873000"/>
              <a:ext cx="183672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Myself: I studi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in Provid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Universit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My major is English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I will study 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Sooch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graduate schoo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in the futur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5902200" y="6273720"/>
            <a:ext cx="3241800" cy="422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665520" y="4951440"/>
            <a:ext cx="1735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My Father: He works on the factory. He loves to collect stamps and rocks.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1449360"/>
            <a:ext cx="1847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  <a:ea typeface="新細明體"/>
              </a:rPr>
              <a:t>My youn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ro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  <a:ea typeface="新細明體"/>
              </a:rPr>
              <a:t>He graduates fr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rmy Academ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.O.C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  <a:ea typeface="新細明體"/>
              </a:rPr>
              <a:t>He is a milit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rot="1800000">
            <a:off x="763560" y="2955960"/>
            <a:ext cx="5400720" cy="1085760"/>
          </a:xfrm>
          <a:prstGeom prst="rightArrow">
            <a:avLst>
              <a:gd name="adj1" fmla="val 39694"/>
              <a:gd name="adj2" fmla="val 105908"/>
            </a:avLst>
          </a:prstGeom>
          <a:gradFill rotWithShape="0">
            <a:gsLst>
              <a:gs pos="0">
                <a:srgbClr val="fefefe">
                  <a:alpha val="15294"/>
                </a:srgbClr>
              </a:gs>
              <a:gs pos="50000">
                <a:srgbClr val="ffffff"/>
              </a:gs>
              <a:gs pos="100000">
                <a:srgbClr val="fefefe">
                  <a:alpha val="15294"/>
                </a:srgbClr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5280" y="1449360"/>
            <a:ext cx="1368360" cy="1116000"/>
            <a:chOff x="395280" y="1449360"/>
            <a:chExt cx="1368360" cy="111600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395280" y="1449360"/>
              <a:ext cx="1368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95280" y="1449360"/>
              <a:ext cx="13683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Jausip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Juni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High School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新細明體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Educational Backgroun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904000" y="3213000"/>
            <a:ext cx="2736360" cy="2658960"/>
            <a:chOff x="5904000" y="3213000"/>
            <a:chExt cx="2736360" cy="2658960"/>
          </a:xfrm>
        </p:grpSpPr>
        <p:pic>
          <p:nvPicPr>
            <p:cNvPr id="206" name="" descr="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>
              <a:off x="5904000" y="3213000"/>
              <a:ext cx="2736360" cy="26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904000" y="3213000"/>
              <a:ext cx="2736360" cy="26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Providence Universit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English Department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新細明體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158920" y="2529000"/>
            <a:ext cx="2160720" cy="1763640"/>
            <a:chOff x="2158920" y="2529000"/>
            <a:chExt cx="2160720" cy="1763640"/>
          </a:xfrm>
        </p:grpSpPr>
        <p:pic>
          <p:nvPicPr>
            <p:cNvPr id="209" name="" descr=""/>
            <p:cNvPicPr/>
            <p:nvPr/>
          </p:nvPicPr>
          <p:blipFill>
            <a:blip r:embed="rId3">
              <a:lum contrast="18000"/>
            </a:blip>
            <a:stretch/>
          </p:blipFill>
          <p:spPr>
            <a:xfrm>
              <a:off x="2158920" y="2529000"/>
              <a:ext cx="216072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158920" y="2529000"/>
              <a:ext cx="216072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5902200" y="6273720"/>
            <a:ext cx="3241800" cy="422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19280" y="281592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an-Y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Girls' Senior High Schoo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539640" cy="558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43680" y="342900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319640" y="2421000"/>
            <a:ext cx="244440" cy="253800"/>
          </a:xfrm>
          <a:prstGeom prst="rect">
            <a:avLst/>
          </a:prstGeom>
          <a:ln w="0">
            <a:noFill/>
          </a:ln>
        </p:spPr>
      </p:pic>
      <p:cxnSp>
        <p:nvCxnSpPr>
          <p:cNvPr id="216" name=""/>
          <p:cNvCxnSpPr>
            <a:stCxn id="215" idx="2"/>
            <a:endCxn id="213" idx="3"/>
          </p:cNvCxnSpPr>
          <p:nvPr/>
        </p:nvCxnSpPr>
        <p:spPr>
          <a:xfrm flipH="1">
            <a:off x="3886920" y="2674440"/>
            <a:ext cx="554760" cy="1755000"/>
          </a:xfrm>
          <a:prstGeom prst="straightConnector1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217" name=""/>
          <p:cNvCxnSpPr>
            <a:stCxn id="213" idx="3"/>
            <a:endCxn id="214" idx="1"/>
          </p:cNvCxnSpPr>
          <p:nvPr/>
        </p:nvCxnSpPr>
        <p:spPr>
          <a:xfrm flipV="1">
            <a:off x="3887280" y="3618720"/>
            <a:ext cx="2156400" cy="810360"/>
          </a:xfrm>
          <a:prstGeom prst="straightConnector1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218" name=""/>
          <p:cNvCxnSpPr>
            <a:stCxn id="214" idx="1"/>
            <a:endCxn id="215" idx="2"/>
          </p:cNvCxnSpPr>
          <p:nvPr/>
        </p:nvCxnSpPr>
        <p:spPr>
          <a:xfrm flipH="1" flipV="1">
            <a:off x="4441320" y="2674440"/>
            <a:ext cx="1602720" cy="945360"/>
          </a:xfrm>
          <a:prstGeom prst="straightConnector1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</p:cxnSp>
      <p:grpSp>
        <p:nvGrpSpPr>
          <p:cNvPr id="219" name=""/>
          <p:cNvGrpSpPr/>
          <p:nvPr/>
        </p:nvGrpSpPr>
        <p:grpSpPr>
          <a:xfrm>
            <a:off x="3600360" y="1125360"/>
            <a:ext cx="1800360" cy="1187640"/>
            <a:chOff x="3600360" y="1125360"/>
            <a:chExt cx="1800360" cy="1187640"/>
          </a:xfrm>
        </p:grpSpPr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3600360" y="1125360"/>
              <a:ext cx="180036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600360" y="1125360"/>
              <a:ext cx="180036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To b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the TA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in this subjec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49440" y="3675240"/>
            <a:ext cx="2409840" cy="2199600"/>
            <a:chOff x="649440" y="3675240"/>
            <a:chExt cx="2409840" cy="2199600"/>
          </a:xfrm>
        </p:grpSpPr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649440" y="3675240"/>
              <a:ext cx="2409840" cy="219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49440" y="3675240"/>
              <a:ext cx="2409840" cy="21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516720" y="2997360"/>
            <a:ext cx="1727280" cy="1439640"/>
            <a:chOff x="6516720" y="2997360"/>
            <a:chExt cx="1727280" cy="1439640"/>
          </a:xfrm>
        </p:grpSpPr>
        <p:pic>
          <p:nvPicPr>
            <p:cNvPr id="226" name="" descr=""/>
            <p:cNvPicPr/>
            <p:nvPr/>
          </p:nvPicPr>
          <p:blipFill>
            <a:blip r:embed="rId6"/>
            <a:stretch/>
          </p:blipFill>
          <p:spPr>
            <a:xfrm>
              <a:off x="6516720" y="2997360"/>
              <a:ext cx="172728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516720" y="2997360"/>
              <a:ext cx="172728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In the uppe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22.86%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新細明體"/>
                </a:rPr>
                <a:t>of my clas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My Scholastic Recor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5902200" y="6273720"/>
            <a:ext cx="3241800" cy="422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26920" y="3905640"/>
            <a:ext cx="220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新細明體"/>
              </a:rPr>
              <a:t>My high gr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n the Foreign Re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新細明體"/>
              </a:rPr>
              <a:t>Of The Republic Of Chin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My Experience in schoo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750920" y="1944720"/>
            <a:ext cx="1800" cy="393228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832360" y="1944720"/>
            <a:ext cx="15840" cy="393228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9040" y="1944720"/>
            <a:ext cx="0" cy="393228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65360" y="1944720"/>
            <a:ext cx="0" cy="393228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635280" y="3789360"/>
            <a:ext cx="828720" cy="351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46200" y="2178000"/>
            <a:ext cx="151308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751280" y="4905360"/>
            <a:ext cx="1297080" cy="287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3635280" y="2997360"/>
            <a:ext cx="432000" cy="307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832360" y="2565360"/>
            <a:ext cx="3311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  <a:ea typeface="新細明體"/>
              </a:rPr>
              <a:t>Be elected model stud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06064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Taichung County Wunan Elementary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869000"/>
            <a:ext cx="16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BeiShih Element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933720"/>
            <a:ext cx="212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mic Sans MS"/>
                <a:ea typeface="新細明體"/>
              </a:rPr>
              <a:t>Huei-Ming School</a:t>
            </a:r>
            <a:r>
              <a:rPr b="1" lang="en-US" sz="13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11800" y="59500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2010/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95800" y="59500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2009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06720" y="59500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2009/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56360" y="1881360"/>
            <a:ext cx="27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Teaching English in Taichung    County Wunan  E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77080" y="400536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mic Sans MS"/>
                <a:ea typeface="新細明體"/>
              </a:rPr>
              <a:t>Teaching English in</a:t>
            </a:r>
            <a:r>
              <a:rPr b="1" lang="en-US" sz="13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Comic Sans MS"/>
                <a:ea typeface="新細明體"/>
              </a:rPr>
              <a:t>BeiShi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lementary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59280" y="3249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Being the volunteer InHuei-Ming Schoo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324000" y="3176640"/>
            <a:ext cx="2195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mic Sans MS"/>
                <a:ea typeface="新細明體"/>
              </a:rPr>
              <a:t>Model stud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916840" y="3357720"/>
            <a:ext cx="227160" cy="2365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8496360" y="2637000"/>
            <a:ext cx="226800" cy="234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8424720" y="1916280"/>
            <a:ext cx="227160" cy="234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8280360" y="4076640"/>
            <a:ext cx="227160" cy="236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546200" y="5881680"/>
            <a:ext cx="5162400" cy="31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6200" y="1881360"/>
            <a:ext cx="38160" cy="4032000"/>
          </a:xfrm>
          <a:custGeom>
            <a:avLst/>
            <a:gdLst>
              <a:gd name="textAreaLeft" fmla="*/ 5400 w 38160"/>
              <a:gd name="textAreaRight" fmla="*/ 32760 w 38160"/>
              <a:gd name="textAreaTop" fmla="*/ 5400 h 4032000"/>
              <a:gd name="textAreaBottom" fmla="*/ 4026600 h 4032000"/>
            </a:gdLst>
            <a:ahLst/>
            <a:rect l="textAreaLeft" t="textAreaTop" r="textAreaRight" b="textAreaBottom"/>
            <a:pathLst>
              <a:path w="21600" h="2261136">
                <a:moveTo>
                  <a:pt x="10800" y="0"/>
                </a:moveTo>
                <a:arcTo wR="10800" hR="10800" stAng="16200000" swAng="-5400000"/>
                <a:lnTo>
                  <a:pt x="0" y="2250336"/>
                </a:lnTo>
                <a:arcTo wR="10800" hR="10800" stAng="10800000" swAng="-5400000"/>
                <a:lnTo>
                  <a:pt x="10800" y="226113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3924360" y="2960640"/>
            <a:ext cx="449280" cy="397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4103640" y="3716280"/>
            <a:ext cx="522360" cy="468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5688000" y="4834080"/>
            <a:ext cx="449280" cy="465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2"/>
          <a:stretch/>
        </p:blipFill>
        <p:spPr>
          <a:xfrm>
            <a:off x="2879640" y="2097000"/>
            <a:ext cx="449280" cy="465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82720" y="59500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2008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3"/>
          <a:stretch/>
        </p:blipFill>
        <p:spPr>
          <a:xfrm>
            <a:off x="6227640" y="6273720"/>
            <a:ext cx="29163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Work Experience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1173240" y="2259000"/>
            <a:ext cx="4876560" cy="1764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87440" y="3073320"/>
            <a:ext cx="485460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03280" y="4545000"/>
            <a:ext cx="485460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616720" y="1916280"/>
            <a:ext cx="422280" cy="1193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240000" y="3753000"/>
            <a:ext cx="319320" cy="793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341280" cy="1728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357200" y="5897520"/>
            <a:ext cx="5072040" cy="30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1882800"/>
            <a:ext cx="46080" cy="4030560"/>
          </a:xfrm>
          <a:custGeom>
            <a:avLst/>
            <a:gdLst>
              <a:gd name="textAreaLeft" fmla="*/ 6480 w 46080"/>
              <a:gd name="textAreaRight" fmla="*/ 39600 w 46080"/>
              <a:gd name="textAreaTop" fmla="*/ 6480 h 4030560"/>
              <a:gd name="textAreaBottom" fmla="*/ 4024080 h 4030560"/>
            </a:gdLst>
            <a:ahLst/>
            <a:rect l="textAreaLeft" t="textAreaTop" r="textAreaRight" b="textAreaBottom"/>
            <a:pathLst>
              <a:path w="21600" h="1874847">
                <a:moveTo>
                  <a:pt x="10800" y="0"/>
                </a:moveTo>
                <a:arcTo wR="10800" hR="10800" stAng="16200000" swAng="-5400000"/>
                <a:lnTo>
                  <a:pt x="0" y="1864047"/>
                </a:lnTo>
                <a:arcTo wR="10800" hR="10800" stAng="10800000" swAng="-5400000"/>
                <a:lnTo>
                  <a:pt x="10800" y="187484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464000" y="2816280"/>
            <a:ext cx="395280" cy="909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912000" y="2133720"/>
            <a:ext cx="2666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Being  a  waitres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in the  hot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35280" y="5877000"/>
            <a:ext cx="1357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  <a:ea typeface="굴림"/>
              </a:rPr>
              <a:t>In the Pas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5877000"/>
            <a:ext cx="178272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  <a:ea typeface="굴림"/>
              </a:rPr>
              <a:t>Being  a  waitress</a:t>
            </a:r>
            <a:r>
              <a:rPr b="1" lang="en-US" sz="1100" spc="-1" strike="noStrike">
                <a:solidFill>
                  <a:srgbClr val="ffffff"/>
                </a:solidFill>
                <a:latin typeface="Comic Sans MS"/>
                <a:ea typeface="굴림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42520" y="5985000"/>
            <a:ext cx="187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In Learn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am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2960" y="2060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8040" y="2852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8040" y="5661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0440" y="2768760"/>
            <a:ext cx="1771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mic Sans MS"/>
              </a:rPr>
              <a:t>Having a part-ti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mic Sans MS"/>
              </a:rPr>
              <a:t>job in the Pas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03000" y="3392640"/>
            <a:ext cx="175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eaching English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est Cram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4113360"/>
            <a:ext cx="22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eaching English in Learning Workshop Cram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03640" y="5985000"/>
            <a:ext cx="12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In B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am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8763120" y="339264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8756640" y="2097000"/>
            <a:ext cx="387360" cy="360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8761320" y="2744640"/>
            <a:ext cx="382680" cy="397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8763120" y="4113360"/>
            <a:ext cx="380880" cy="395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68360" y="2060640"/>
            <a:ext cx="4572000" cy="2484360"/>
          </a:xfrm>
          <a:custGeom>
            <a:avLst/>
            <a:gdLst/>
            <a:ahLst/>
            <a:rect l="l" t="t" r="r" b="b"/>
            <a:pathLst>
              <a:path w="2646" h="1620">
                <a:moveTo>
                  <a:pt x="0" y="1314"/>
                </a:moveTo>
                <a:lnTo>
                  <a:pt x="702" y="1620"/>
                </a:lnTo>
                <a:lnTo>
                  <a:pt x="1404" y="360"/>
                </a:lnTo>
                <a:lnTo>
                  <a:pt x="2094" y="708"/>
                </a:lnTo>
                <a:lnTo>
                  <a:pt x="2646" y="0"/>
                </a:lnTo>
              </a:path>
            </a:pathLst>
          </a:custGeom>
          <a:noFill/>
          <a:ln w="50760">
            <a:solidFill>
              <a:srgbClr val="ffffff"/>
            </a:solidFill>
            <a:round/>
            <a:headEnd len="sm" type="oval" w="sm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2050920" y="3860640"/>
            <a:ext cx="449280" cy="4651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3203640" y="3392640"/>
            <a:ext cx="449280" cy="4651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1"/>
          <a:stretch/>
        </p:blipFill>
        <p:spPr>
          <a:xfrm>
            <a:off x="4427640" y="2529000"/>
            <a:ext cx="485640" cy="501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5580000" y="1521000"/>
            <a:ext cx="520920" cy="536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3"/>
          <a:stretch/>
        </p:blipFill>
        <p:spPr>
          <a:xfrm>
            <a:off x="6300720" y="6273720"/>
            <a:ext cx="2843280" cy="4222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08040" y="4329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68360" y="3753000"/>
            <a:ext cx="485460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320" y="3573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52800" y="3521160"/>
            <a:ext cx="487656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14760" y="1563840"/>
            <a:ext cx="0" cy="403848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00160" y="1563840"/>
            <a:ext cx="5029200" cy="3962160"/>
          </a:xfrm>
          <a:prstGeom prst="ellipse">
            <a:avLst/>
          </a:prstGeom>
          <a:noFill/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847880" y="3392640"/>
            <a:ext cx="295200" cy="3045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877080" y="3392640"/>
            <a:ext cx="295200" cy="304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208400" y="5208480"/>
            <a:ext cx="612720" cy="635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414680" y="1460520"/>
            <a:ext cx="200160" cy="206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3403440" y="2635200"/>
            <a:ext cx="2222640" cy="16668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1908000" y="1197000"/>
            <a:ext cx="1764000" cy="1295280"/>
            <a:chOff x="1908000" y="1197000"/>
            <a:chExt cx="1764000" cy="1295280"/>
          </a:xfrm>
        </p:grpSpPr>
        <p:pic>
          <p:nvPicPr>
            <p:cNvPr id="306" name="" descr=""/>
            <p:cNvPicPr/>
            <p:nvPr/>
          </p:nvPicPr>
          <p:blipFill>
            <a:blip r:embed="rId6"/>
            <a:stretch/>
          </p:blipFill>
          <p:spPr>
            <a:xfrm>
              <a:off x="1908000" y="1197000"/>
              <a:ext cx="1764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908000" y="1197000"/>
              <a:ext cx="176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Graduating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oochow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gradua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sch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838080" y="4245120"/>
            <a:ext cx="2114640" cy="1631880"/>
            <a:chOff x="838080" y="4245120"/>
            <a:chExt cx="2114640" cy="1631880"/>
          </a:xfrm>
        </p:grpSpPr>
        <p:pic>
          <p:nvPicPr>
            <p:cNvPr id="309" name="" descr=""/>
            <p:cNvPicPr/>
            <p:nvPr/>
          </p:nvPicPr>
          <p:blipFill>
            <a:blip r:embed="rId7"/>
            <a:stretch/>
          </p:blipFill>
          <p:spPr>
            <a:xfrm>
              <a:off x="838080" y="4245120"/>
              <a:ext cx="2114640" cy="16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38080" y="4245120"/>
              <a:ext cx="211464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472000" y="1376280"/>
            <a:ext cx="1440000" cy="1044720"/>
            <a:chOff x="5472000" y="1376280"/>
            <a:chExt cx="1440000" cy="1044720"/>
          </a:xfrm>
        </p:grpSpPr>
        <p:pic>
          <p:nvPicPr>
            <p:cNvPr id="312" name="" descr=""/>
            <p:cNvPicPr/>
            <p:nvPr/>
          </p:nvPicPr>
          <p:blipFill>
            <a:blip r:embed="rId8"/>
            <a:stretch/>
          </p:blipFill>
          <p:spPr>
            <a:xfrm>
              <a:off x="5472000" y="1376280"/>
              <a:ext cx="1440000" cy="10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5472000" y="1376280"/>
              <a:ext cx="144000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Going abr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굴림"/>
                </a:rPr>
                <a:t>to stud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842080" y="4245120"/>
            <a:ext cx="2114640" cy="1631880"/>
            <a:chOff x="5842080" y="4245120"/>
            <a:chExt cx="2114640" cy="1631880"/>
          </a:xfrm>
        </p:grpSpPr>
        <p:pic>
          <p:nvPicPr>
            <p:cNvPr id="315" name="" descr=""/>
            <p:cNvPicPr/>
            <p:nvPr/>
          </p:nvPicPr>
          <p:blipFill>
            <a:blip r:embed="rId9"/>
            <a:stretch/>
          </p:blipFill>
          <p:spPr>
            <a:xfrm>
              <a:off x="5842080" y="4245120"/>
              <a:ext cx="2114640" cy="16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842080" y="4245120"/>
              <a:ext cx="211464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Being a secreta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Goal of Futur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0"/>
          <a:stretch/>
        </p:blipFill>
        <p:spPr>
          <a:xfrm>
            <a:off x="5902200" y="6273720"/>
            <a:ext cx="3241800" cy="4222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042920" y="4545000"/>
            <a:ext cx="20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tte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bout the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ThemeGallery</dc:creator>
  <dc:description/>
  <dc:language>en-US</dc:language>
  <cp:lastModifiedBy>Customer</cp:lastModifiedBy>
  <dcterms:modified xsi:type="dcterms:W3CDTF">2010-04-07T08:01:51Z</dcterms:modified>
  <cp:revision>195</cp:revision>
  <dc:subject/>
  <dc:title>040TGp_time_mono</dc:title>
</cp:coreProperties>
</file>