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DCB-9285-4147-B41E-FA3DE793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C4D-04BD-4894-A3C0-1118BE20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723A4-D8B6-41C8-BA3E-321148D1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12C1D-3768-4A35-8410-A7216F16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ABD9A-5CCD-4F78-9A52-2BCBB476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963C8-3148-460D-B47D-0FD2FEB2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1828C-5EFE-46E8-AC5B-E7129067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31817-B7F6-4D9D-B42D-3DC1F125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87459-317B-4B6C-B907-FABBC4D4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4AAEC-65C8-4165-A278-A2DB8766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AF395-A196-46F2-9FEE-A9C8C918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B465F-0C6D-45FD-B47E-5849E1DA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891-1A5C-4485-A706-60F90F4E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8B3EB-C5AC-4F39-AB48-AB18BE36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B15FD-76D3-4092-80B7-18D9B17C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60937-4132-428B-B9A4-F972A418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67933-BDD6-4F9C-AE3C-B64B90E5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F011B-565B-4481-A73A-57D015D2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71B4A-7E9D-4A7B-81BE-D42EF861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AAF96-89E8-4747-9C18-A6348C3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C1B3F-8D9C-4394-ADE2-78142A3E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D92DA-6F41-4EA0-88D6-734D3179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87DCA-2D1B-429C-BA7D-D442BEA0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CDC-C9D3-48EA-B13F-06BC06BB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E171E-F4EC-4E73-BD03-6CC628D7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2ADC0-9455-435F-A49C-49EEC42B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A2D42-4625-4B61-AC0A-B4E541DA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9B730-71C5-44D2-872B-847F0826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5DE80-0281-4FA1-B94F-CF8879F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35916-B6A6-43BB-8B64-2FF74246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F004B-0130-4D29-BA84-36A9FCED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8CD61-EC79-4C19-8BE5-B79EB25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9ADA2-47F2-44AE-A6B7-F2ECAF3A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050EA-E65E-499B-AB94-9D4A18A7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5215-F996-40A7-81A3-D6399DB1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679EC-1E5F-4194-804B-1D36B840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87532-AB96-4F05-A12F-ECCD912F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01DB7-0EDF-46AB-B89B-F453C073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5E684-865D-4DE5-99D9-5393F3AA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723F5-67E8-44D7-8334-0516B909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34FE9-CF51-456D-9E04-1570201C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41526-0113-48F3-95A0-DA59DFF9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0F6D0-5F95-4025-8B3F-D82ACBCA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216BE-8480-41BD-858F-DADE2A01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1F70A-616E-4182-B9A5-FEFA240C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54CD-33DF-4D26-ADD6-63796C51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383F5-6084-4074-9A8B-9B16550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FCE88-00F2-4DA8-8623-1A9A072F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442AC-AB08-4DFD-9FEB-FC16C2D1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B2702-BF46-4A10-A7D1-4E2E0374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EF2E9-44CB-4F90-9CAF-C569F034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99734-1FE3-41CB-9D49-52B50873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85082-95B2-4482-9B51-171C4EAC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8B394-5E14-4223-97A6-162BD797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8BC64-FC98-44AA-8CFC-9CAF8809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6E056-47BA-425E-9B35-FD73C0BA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ACD4-349F-4E10-BF66-52899994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29C62-2C0C-44CC-B4C9-2EAA1EF9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EB80F-0804-428A-B9AF-ACE83BA5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7CE22-648C-40D0-91C2-16E9AA53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25140-B31B-473D-B5C2-1C5F28C2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64111-EF3F-405D-8DCB-79D24F13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990A3-6BCB-4BA0-8DFE-AFBA998E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C77AE-EB14-4256-A82C-DB23FA3E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169D-6051-4772-8315-2E2861D8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98B3-8A81-483D-829C-3DE6A3CB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0CEE-1BEA-4BD2-ABBB-5D8CEC16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1040-5AAA-44E6-9EC4-2B2E2CE3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6BC-8310-481D-BF02-4CDFD2DB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8D41-ADC5-46D5-BFD1-7610E5C9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2E37-901D-498D-BED9-2E8BFF9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9C84-26C3-4AC6-9E60-1745FFAB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40F5-5C21-41EF-AECD-0CAB2065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904-D537-4ECC-8D82-B419F7CB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86094-532D-4EEF-9C7F-58CCCC95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088E-BFE3-42D7-8D2C-897E1192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D928-6819-4DB1-A1AD-CCF64BDA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FA61-2492-422B-98FE-581457BA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641A-C459-4E5D-B9EF-26CED2C8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347-6180-4639-A1D5-A9338CFB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F774-8332-44D3-9AF7-924AFB76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9AB5-B339-4FB0-86B7-108B7D18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962D-6FA4-4F3C-B9EA-72DF2B5B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BC21-34AB-451F-B696-91B3C7F0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CC0F-65A6-421A-9280-1302FCAE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2EA4-B943-49CA-B915-C3A13E43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C750-6E15-4F1E-99FA-02CF3EA5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4B66E-90DB-43D0-835C-543EA487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F151-8366-47D2-872A-0B265396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0B97E-99AE-42D0-B21E-8093B394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A25-2832-4BEF-9387-03B9665C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C9155-8FEE-4E6B-811B-7244A8AB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7BFBD-47DF-4508-B68E-08D3D0F3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1E863-C032-4359-AF9B-936015FA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6707D-3D4C-4C53-A597-29F0C791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4C5F-8F1A-4B73-AD00-C0197B80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0B8E-D1DE-4DE7-8D62-5C3BD90D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25C5D-B7C6-4341-BAE8-0803F1C6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EBF5-D477-4D63-9109-824301DA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C500D-11C1-493D-BE25-45B2E5C8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1AFB7-99B4-4E56-A2E7-FA799A9C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343-5F4A-4984-9F51-5CFCCC9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69B53-9FC6-4AF9-A4FD-344AA915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0521-6B8F-475F-8B65-6E10E5F0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ED4C6-9DBD-406D-AF8F-58289794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2E286-CF3F-4021-AB15-996629B9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9D521-E4B6-4295-A25E-4D80055B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3D086-7E9E-4B3D-A7A7-B800079D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FF7D-1E73-4136-81C1-282F0957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DEA95-F862-47F0-ABD4-29404A56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24CAF-34D6-410B-8583-257031A3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F82B2-EEE5-40C2-B1FC-2404399C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39B-2E94-43ED-B7E3-613795CE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1FB42-5C73-4DE8-BD16-CC3A7F56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364C4-AC53-4028-B03D-2958508B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80634-E622-432C-9E4C-E9B6D13C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766FF-58D1-4FD5-A201-896397CF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3E5CE-5D2A-4A1C-BD69-B1CDF82E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B2E9C-F6B9-4FBA-B4F8-9F481E7B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4CC54-220B-4488-B647-65E941E2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4E464-9786-4449-B398-6B3DD303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064F3-DFCD-4BEE-8C98-1CB441D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8B78-4558-4762-BB0C-1CABC98D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67D-186D-4E0C-BB67-3901F9A7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D1FFC-AB28-4556-BCD9-7D9BA0D8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D087C-3E08-42F9-B05B-AFA6283E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73E4-DD25-41F1-A5D9-CA5D0774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353C5-8939-4D48-A02A-256100DF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DC332-A3CA-4CD0-B169-0D94789D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36EFD-D63F-4E73-8740-BF5A0219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1D0C0-F2DC-4E08-BEEE-EB39FF04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13B19-6D3F-42FC-8CCD-9B415655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56690-0B83-4357-9F3D-D3A87E3E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A2CDE-658A-43E7-8E3D-E8EBDB23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591-18F5-4576-842D-1E079F8C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1E721-68E1-471B-A349-2D9ECD73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7AA7-2CAF-4124-8DB2-070BD2B6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5990A-F62C-4C19-A15F-DB508D3D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D2DDB-6067-4D7F-94EA-954F366E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1C628-CB05-4144-A24D-47D0D4E2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E4910-B88E-46DD-B79E-7ED5FA12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B4F45-274F-492F-BD86-E693E481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93E36-55A8-41C3-8DA2-FFE82CA0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09CD6-D16E-475D-BF8F-BBF30893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56348-259E-4A66-8C93-B7EECBCC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321-FD50-45A4-AB47-52C30CCA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B2607-71FB-4F9B-A763-5E212CDA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CA630-3EDE-4144-9085-EEF0FBDA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B97B-B647-4A5C-A7A4-142D09D4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D4D52-35CA-44A9-8B1E-15BF3A53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F0C5-851A-4D41-A1F3-D9388FB1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13AB1-62D5-4270-BB07-431EA218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C8A03-5761-4546-A60A-BF2BAE58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F496F-6F0C-4C1B-AF64-DEF28A1C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663D8-7BB4-4877-9416-5FE3B26C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97806-7D4A-4928-9E50-2EEFC95F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8684-48B0-4A0B-8675-D4AC0FA9494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手繪多邊形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手繪多邊形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16" name="直線接點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7" name="＞形箭號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＞形箭號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7E27-784F-43D2-9E09-EF171293987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7720-B05A-4B9A-8F99-D3DD91912BD3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5E8D-683A-4157-9A38-EB9C4C80467A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66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66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66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1A15-B115-4F69-9537-F7AAD3F798D2}" type="slidenum">
              <a:rPr b="0" lang="zh-TW" sz="1400" spc="-1" strike="noStrike">
                <a:solidFill>
                  <a:srgbClr val="006666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48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49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51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2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4" name="圖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952E-E748-4D2C-A4C7-723AE065C58B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1654-7C19-4F5E-86DF-86584F3A7DDA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3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9" name="手繪多邊形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0" name="手繪多邊形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141" name="手繪多邊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42" name="手繪多邊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144" name="直線接點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DB78-8B3A-4059-9AF9-60C7EF64C0D4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1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＞形箭號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4FC2-2313-4094-B9D5-839BE3A6F17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40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D51B-E7D2-4E18-8C57-6F64A6BB894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51FD-D2F2-4491-8BA7-8D42A2483FC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8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0139-A9CE-4A69-A00A-30760FAD6C5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FFEC-DE9B-4598-A2FC-4614CB1CC06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標題 1" descr=""/>
          <p:cNvPicPr/>
          <p:nvPr/>
        </p:nvPicPr>
        <p:blipFill>
          <a:blip r:embed="rId1"/>
          <a:stretch/>
        </p:blipFill>
        <p:spPr>
          <a:xfrm>
            <a:off x="-30240" y="115920"/>
            <a:ext cx="8966160" cy="233532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0" y="24998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Group Member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595959"/>
                </a:solidFill>
                <a:latin typeface="微軟正黑體"/>
              </a:rPr>
              <a:t>林孟洵 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</a:rPr>
              <a:t>(E3B) </a:t>
            </a:r>
            <a:r>
              <a:rPr b="1" lang="en-US" sz="31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64102297</a:t>
            </a:r>
            <a:r>
              <a:rPr b="1" lang="zh-TW" sz="3200" spc="-1" strike="noStrike">
                <a:solidFill>
                  <a:srgbClr val="595959"/>
                </a:solidFill>
                <a:latin typeface="Lucida Sans Unicode"/>
              </a:rPr>
              <a:t>  </a:t>
            </a:r>
            <a:r>
              <a:rPr b="1" lang="zh-TW" sz="2600" spc="-1" strike="noStrike">
                <a:solidFill>
                  <a:srgbClr val="595959"/>
                </a:solidFill>
                <a:latin typeface="微軟正黑體"/>
              </a:rPr>
              <a:t>王瀅瀅</a:t>
            </a:r>
            <a:r>
              <a:rPr b="1" lang="zh-TW" sz="2300" spc="-1" strike="noStrike">
                <a:solidFill>
                  <a:srgbClr val="595959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595959"/>
                </a:solidFill>
                <a:latin typeface="微軟正黑體"/>
              </a:rPr>
              <a:t>(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</a:rPr>
              <a:t>E4C )</a:t>
            </a:r>
            <a:r>
              <a:rPr b="1" lang="en-US" sz="32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2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541072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767c"/>
                </a:solidFill>
                <a:latin typeface="Arial Unicode MS"/>
                <a:ea typeface="Arial Unicode MS"/>
              </a:rPr>
              <a:t>Joanna                            Linl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595959"/>
                </a:solidFill>
                <a:latin typeface="Lucida Sans Unicode"/>
              </a:rPr>
              <a:t>林政言</a:t>
            </a:r>
            <a:r>
              <a:rPr b="1" lang="en-US" sz="31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  <a:ea typeface="Aharoni"/>
              </a:rPr>
              <a:t>(E4A)</a:t>
            </a:r>
            <a:r>
              <a:rPr b="1" lang="en-US" sz="26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2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5415189</a:t>
            </a:r>
            <a:r>
              <a:rPr b="1" lang="en-US" sz="3200" spc="-1" strike="noStrike">
                <a:solidFill>
                  <a:srgbClr val="595959"/>
                </a:solidFill>
                <a:latin typeface="Aharoni"/>
                <a:ea typeface="Aharoni"/>
              </a:rPr>
              <a:t>  </a:t>
            </a:r>
            <a:r>
              <a:rPr b="1" lang="zh-TW" sz="2600" spc="-1" strike="noStrike">
                <a:solidFill>
                  <a:srgbClr val="595959"/>
                </a:solidFill>
                <a:latin typeface="Lucida Sans Unicode"/>
              </a:rPr>
              <a:t>陳含佳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  <a:ea typeface="Aharoni"/>
              </a:rPr>
              <a:t>(E3B)</a:t>
            </a:r>
            <a:r>
              <a:rPr b="1" lang="zh-TW" sz="26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5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6410629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c767c"/>
                </a:solidFill>
                <a:latin typeface="Arial Unicode MS"/>
                <a:ea typeface="Arial Unicode MS"/>
              </a:rPr>
              <a:t>Roy                             Anne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4e74"/>
                </a:solidFill>
                <a:latin typeface="Maiandra GD"/>
              </a:rPr>
              <a:t>Place of Articulation</a:t>
            </a:r>
            <a:br>
              <a:rPr sz="4000"/>
            </a:b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641" name="Picture 9" descr="img001"/>
          <p:cNvPicPr/>
          <p:nvPr/>
        </p:nvPicPr>
        <p:blipFill>
          <a:blip r:embed="rId1"/>
          <a:stretch/>
        </p:blipFill>
        <p:spPr>
          <a:xfrm>
            <a:off x="-285840" y="1357200"/>
            <a:ext cx="5929560" cy="49294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8"/>
          <p:cNvSpPr/>
          <p:nvPr/>
        </p:nvSpPr>
        <p:spPr>
          <a:xfrm>
            <a:off x="5286240" y="1643040"/>
            <a:ext cx="3311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mbria"/>
                <a:ea typeface="新細明體"/>
              </a:rPr>
              <a:t>1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. bilabial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2. labio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3. 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4. alveo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5. pala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6. ve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7.uv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8. glot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680" y="2714760"/>
            <a:ext cx="4357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  <a:ea typeface="新細明體"/>
              </a:rPr>
              <a:t>Conclusion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Depending on students’ language background, </a:t>
            </a:r>
            <a:r>
              <a:rPr b="1" lang="en-US" sz="2700" spc="-1" strike="noStrike" u="sng">
                <a:solidFill>
                  <a:srgbClr val="eb641b"/>
                </a:solidFill>
                <a:uFillTx/>
                <a:latin typeface="Lucida Sans Unicode"/>
              </a:rPr>
              <a:t>certain consonants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will be harder for them to distinguish than oth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Which contrasts are most difficult for students, more focused </a:t>
            </a:r>
            <a:r>
              <a:rPr b="1" lang="en-US" sz="2700" spc="-1" strike="noStrike" u="sng">
                <a:solidFill>
                  <a:srgbClr val="eb641b"/>
                </a:solidFill>
                <a:uFillTx/>
                <a:latin typeface="Lucida Sans Unicode"/>
              </a:rPr>
              <a:t>exercises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 can be design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5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3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5712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ESL/EFL learners problematic consonant sounds can be described using a combination of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drawings, visual props, and word and sentence dri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Be aware of which individual sounds and which sound contrasts may cause students difficulty.  E.g.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homogeneous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and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heterogeneou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language backgrou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7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3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Lucida Sans Unicode"/>
              </a:rPr>
              <a:t>Celce-Murcia, D. Teaching Pronunciation, p48~5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Lucida Sans Unicode"/>
              </a:rPr>
              <a:t>Victoria Fromkin ,Robert Rodman, An Introduction to Language, p22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9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p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Teaching consonants is how detailed an analysis to present to the stud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Classifying consonants according to their features can greatly assist stud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6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500040" y="135720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To present consonants in this manner, special attention should be paid to the symbols that differ from regular spelling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/ʃ/, /ʒ/, /t ʃ/,/dʒ/, /</a:t>
            </a:r>
            <a:r>
              <a:rPr b="1" lang="el-GR" sz="2700" spc="-1" strike="noStrike">
                <a:solidFill>
                  <a:srgbClr val="595959"/>
                </a:solidFill>
                <a:latin typeface="Lucida Sans Unicode"/>
              </a:rPr>
              <a:t>θ</a:t>
            </a: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/,/ð/,/ ŋ / ,and to sound contrasts that do not exist in the students’ first langu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All-skills classes in which there is time to focus on fluency rather than accura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8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"/>
          <p:cNvGraphicFramePr/>
          <p:nvPr/>
        </p:nvGraphicFramePr>
        <p:xfrm>
          <a:off x="571680" y="928800"/>
          <a:ext cx="8143560" cy="4957560"/>
        </p:xfrm>
        <a:graphic>
          <a:graphicData uri="http://schemas.openxmlformats.org/drawingml/2006/table">
            <a:tbl>
              <a:tblPr/>
              <a:tblGrid>
                <a:gridCol w="1122120"/>
                <a:gridCol w="963720"/>
                <a:gridCol w="1122480"/>
                <a:gridCol w="863280"/>
                <a:gridCol w="1017720"/>
                <a:gridCol w="1004760"/>
                <a:gridCol w="1032120"/>
                <a:gridCol w="10173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anner of Arti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TABLE3.3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TUDENT WORKSHEET: CLASSIFICATION OF NAE CONSONANT PHO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lab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abio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ve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ala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e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lot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文字方塊 5"/>
          <p:cNvSpPr/>
          <p:nvPr/>
        </p:nvSpPr>
        <p:spPr>
          <a:xfrm>
            <a:off x="571680" y="2142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4e74"/>
                </a:solidFill>
                <a:latin typeface="新細明體"/>
                <a:ea typeface="新細明體"/>
              </a:rPr>
              <a:t>p.4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Lucida Sans Unicode"/>
              </a:rPr>
              <a:t>The type of obstacle course the air takes, referred to as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Lucida Sans Unicode"/>
              </a:rPr>
              <a:t>manner of articulation</a:t>
            </a:r>
            <a:r>
              <a:rPr b="1" lang="en-US" sz="3600" spc="-1" strike="noStrike">
                <a:solidFill>
                  <a:srgbClr val="404040"/>
                </a:solidFill>
                <a:latin typeface="Lucida Sans Unicode"/>
              </a:rPr>
              <a:t>, is another distinguish feature of how consonants are produced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2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Stop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e airstream is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stopped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or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blacked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completely prior to releas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Air is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forced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rough a narrow passageway in the mouth of throat creat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Af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e sound begins as a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stop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and is then released as a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 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4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1428840" y="2143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p/</a:t>
            </a:r>
            <a:r>
              <a:rPr b="0" lang="en-US" sz="1800" spc="-1" strike="noStrike">
                <a:solidFill>
                  <a:srgbClr val="eb641b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b/</a:t>
            </a:r>
            <a:r>
              <a:rPr b="0" lang="en-US" sz="1800" spc="-1" strike="noStrike">
                <a:solidFill>
                  <a:srgbClr val="eb641b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4288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f/ , /v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1357200" y="49291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tʃ/ , /d ʒ 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95280" y="9806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Nasal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Continuous air is released through the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nasal cavity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while the speech organs assume a stoplike posi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Liquid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There is some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obstructio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of the airstream in the mouth, but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no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nough to cause any real constriction or fric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Sans Unicode"/>
              </a:rPr>
              <a:t>Glide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They are always followed</a:t>
            </a: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directly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by a vowe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9" name="標題 2" descr=""/>
          <p:cNvPicPr/>
          <p:nvPr/>
        </p:nvPicPr>
        <p:blipFill>
          <a:blip r:embed="rId1"/>
          <a:stretch/>
        </p:blipFill>
        <p:spPr>
          <a:xfrm>
            <a:off x="179280" y="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1332000" y="24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m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n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140328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l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r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140328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w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y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4e74"/>
                </a:solidFill>
                <a:latin typeface="Maiandra GD"/>
              </a:rPr>
              <a:t>Place of Articulation</a:t>
            </a:r>
            <a:br>
              <a:rPr sz="4000"/>
            </a:b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604" name="Picture 9" descr="img001"/>
          <p:cNvPicPr/>
          <p:nvPr/>
        </p:nvPicPr>
        <p:blipFill>
          <a:blip r:embed="rId1"/>
          <a:stretch/>
        </p:blipFill>
        <p:spPr>
          <a:xfrm>
            <a:off x="-285840" y="1357200"/>
            <a:ext cx="5929560" cy="49294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8"/>
          <p:cNvSpPr/>
          <p:nvPr/>
        </p:nvSpPr>
        <p:spPr>
          <a:xfrm>
            <a:off x="5286240" y="1643040"/>
            <a:ext cx="3311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mbria"/>
                <a:ea typeface="新細明體"/>
              </a:rPr>
              <a:t>1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. bilabial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2. labio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3. 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4. alveo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5. (alveo)pala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6. ve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7.uv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8. glot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b36"/>
                </a:solidFill>
                <a:latin typeface="Maiandra GD"/>
              </a:rPr>
              <a:t>p49.</a:t>
            </a:r>
            <a:endParaRPr b="0" lang="en-US" sz="1800" spc="-1" strike="noStrike">
              <a:solidFill>
                <a:srgbClr val="001b36"/>
              </a:solidFill>
              <a:latin typeface="Maiandra GD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571680" y="642960"/>
          <a:ext cx="8072280" cy="5357880"/>
        </p:xfrm>
        <a:graphic>
          <a:graphicData uri="http://schemas.openxmlformats.org/drawingml/2006/table">
            <a:tbl>
              <a:tblPr/>
              <a:tblGrid>
                <a:gridCol w="1508040"/>
                <a:gridCol w="863640"/>
                <a:gridCol w="981000"/>
                <a:gridCol w="804960"/>
                <a:gridCol w="914400"/>
                <a:gridCol w="901440"/>
                <a:gridCol w="927360"/>
                <a:gridCol w="117144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anner of Arti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TABLE3.3    STUDENT WORKSHEET: CLASSIFICATION OF NAE CONSONANT PHO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lab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abio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ve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ala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e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lot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Text Box 179"/>
          <p:cNvSpPr/>
          <p:nvPr/>
        </p:nvSpPr>
        <p:spPr>
          <a:xfrm>
            <a:off x="571680" y="1428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Text Box 180"/>
          <p:cNvSpPr/>
          <p:nvPr/>
        </p:nvSpPr>
        <p:spPr>
          <a:xfrm>
            <a:off x="571680" y="221472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Fricativ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Text Box 181"/>
          <p:cNvSpPr/>
          <p:nvPr/>
        </p:nvSpPr>
        <p:spPr>
          <a:xfrm>
            <a:off x="571680" y="30002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Affricat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Text Box 182"/>
          <p:cNvSpPr/>
          <p:nvPr/>
        </p:nvSpPr>
        <p:spPr>
          <a:xfrm>
            <a:off x="571680" y="3714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Nasa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Text Box 183"/>
          <p:cNvSpPr/>
          <p:nvPr/>
        </p:nvSpPr>
        <p:spPr>
          <a:xfrm>
            <a:off x="571680" y="4500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Text Box 184"/>
          <p:cNvSpPr/>
          <p:nvPr/>
        </p:nvSpPr>
        <p:spPr>
          <a:xfrm>
            <a:off x="571680" y="52862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Glid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Text Box 185"/>
          <p:cNvSpPr/>
          <p:nvPr/>
        </p:nvSpPr>
        <p:spPr>
          <a:xfrm>
            <a:off x="2050920" y="141300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p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Text Box 186"/>
          <p:cNvSpPr/>
          <p:nvPr/>
        </p:nvSpPr>
        <p:spPr>
          <a:xfrm>
            <a:off x="2050920" y="1773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b</a:t>
            </a:r>
            <a:r>
              <a:rPr b="1" lang="en-US" sz="1200" spc="-1" strike="noStrike">
                <a:solidFill>
                  <a:srgbClr val="0000ff"/>
                </a:solidFill>
                <a:latin typeface="Cambria"/>
                <a:ea typeface="新細明體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Text Box 187"/>
          <p:cNvSpPr/>
          <p:nvPr/>
        </p:nvSpPr>
        <p:spPr>
          <a:xfrm>
            <a:off x="2050920" y="3860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m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Text Box 189"/>
          <p:cNvSpPr/>
          <p:nvPr/>
        </p:nvSpPr>
        <p:spPr>
          <a:xfrm>
            <a:off x="2000160" y="535788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mbria"/>
                <a:ea typeface="新細明體"/>
              </a:rPr>
              <a:t>(/hw/) </a:t>
            </a:r>
            <a:r>
              <a:rPr b="1" lang="zh-TW" sz="1600" spc="-1" strike="noStrike" baseline="30000">
                <a:solidFill>
                  <a:srgbClr val="000000"/>
                </a:solidFill>
                <a:latin typeface="Cambria"/>
                <a:ea typeface="新細明體"/>
              </a:rPr>
              <a:t>＊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Text Box 188"/>
          <p:cNvSpPr/>
          <p:nvPr/>
        </p:nvSpPr>
        <p:spPr>
          <a:xfrm>
            <a:off x="2071800" y="564372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w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Text Box 190"/>
          <p:cNvSpPr/>
          <p:nvPr/>
        </p:nvSpPr>
        <p:spPr>
          <a:xfrm>
            <a:off x="3059280" y="2205000"/>
            <a:ext cx="7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f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Text Box 191"/>
          <p:cNvSpPr/>
          <p:nvPr/>
        </p:nvSpPr>
        <p:spPr>
          <a:xfrm>
            <a:off x="2987640" y="256536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v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Text Box 192"/>
          <p:cNvSpPr/>
          <p:nvPr/>
        </p:nvSpPr>
        <p:spPr>
          <a:xfrm>
            <a:off x="4000680" y="2214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θ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Text Box 193"/>
          <p:cNvSpPr/>
          <p:nvPr/>
        </p:nvSpPr>
        <p:spPr>
          <a:xfrm>
            <a:off x="3929040" y="25718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ð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文字方塊 95"/>
          <p:cNvSpPr/>
          <p:nvPr/>
        </p:nvSpPr>
        <p:spPr>
          <a:xfrm>
            <a:off x="4716360" y="14130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t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文字方塊 96"/>
          <p:cNvSpPr/>
          <p:nvPr/>
        </p:nvSpPr>
        <p:spPr>
          <a:xfrm>
            <a:off x="4716360" y="1773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d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文字方塊 97"/>
          <p:cNvSpPr/>
          <p:nvPr/>
        </p:nvSpPr>
        <p:spPr>
          <a:xfrm>
            <a:off x="4788000" y="22050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s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文字方塊 98"/>
          <p:cNvSpPr/>
          <p:nvPr/>
        </p:nvSpPr>
        <p:spPr>
          <a:xfrm>
            <a:off x="478800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z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文字方塊 99"/>
          <p:cNvSpPr/>
          <p:nvPr/>
        </p:nvSpPr>
        <p:spPr>
          <a:xfrm>
            <a:off x="4714920" y="38577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n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文字方塊 100"/>
          <p:cNvSpPr/>
          <p:nvPr/>
        </p:nvSpPr>
        <p:spPr>
          <a:xfrm>
            <a:off x="4714920" y="4572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l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文字方塊 101"/>
          <p:cNvSpPr/>
          <p:nvPr/>
        </p:nvSpPr>
        <p:spPr>
          <a:xfrm>
            <a:off x="4714920" y="4929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新細明體"/>
              </a:rPr>
              <a:t>(/r/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文字方塊 102"/>
          <p:cNvSpPr/>
          <p:nvPr/>
        </p:nvSpPr>
        <p:spPr>
          <a:xfrm>
            <a:off x="5786280" y="221472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ʃ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文字方塊 103"/>
          <p:cNvSpPr/>
          <p:nvPr/>
        </p:nvSpPr>
        <p:spPr>
          <a:xfrm>
            <a:off x="5786280" y="2571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ʒ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文字方塊 104"/>
          <p:cNvSpPr/>
          <p:nvPr/>
        </p:nvSpPr>
        <p:spPr>
          <a:xfrm>
            <a:off x="5715000" y="3000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tʃ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文字方塊 105"/>
          <p:cNvSpPr/>
          <p:nvPr/>
        </p:nvSpPr>
        <p:spPr>
          <a:xfrm>
            <a:off x="5643720" y="3357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dʒ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文字方塊 106"/>
          <p:cNvSpPr/>
          <p:nvPr/>
        </p:nvSpPr>
        <p:spPr>
          <a:xfrm>
            <a:off x="5786280" y="47149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r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文字方塊 107"/>
          <p:cNvSpPr/>
          <p:nvPr/>
        </p:nvSpPr>
        <p:spPr>
          <a:xfrm>
            <a:off x="5786280" y="54291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y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文字方塊 108"/>
          <p:cNvSpPr/>
          <p:nvPr/>
        </p:nvSpPr>
        <p:spPr>
          <a:xfrm>
            <a:off x="6572160" y="15001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k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文字方塊 109"/>
          <p:cNvSpPr/>
          <p:nvPr/>
        </p:nvSpPr>
        <p:spPr>
          <a:xfrm>
            <a:off x="6588000" y="17733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g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文字方塊 110"/>
          <p:cNvSpPr/>
          <p:nvPr/>
        </p:nvSpPr>
        <p:spPr>
          <a:xfrm>
            <a:off x="6643800" y="39290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 ŋ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文字方塊 112"/>
          <p:cNvSpPr/>
          <p:nvPr/>
        </p:nvSpPr>
        <p:spPr>
          <a:xfrm>
            <a:off x="7715160" y="242892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h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44:44Z</dcterms:created>
  <dc:creator>user</dc:creator>
  <dc:description/>
  <dc:language>en-US</dc:language>
  <cp:lastModifiedBy>Customer</cp:lastModifiedBy>
  <dcterms:modified xsi:type="dcterms:W3CDTF">2010-04-11T10:24:33Z</dcterms:modified>
  <cp:revision>43</cp:revision>
  <dc:subject/>
  <dc:title>Teaching Pronunciation  The Sound of North America English</dc:title>
</cp:coreProperties>
</file>