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D93-F42B-491A-831A-4A4DA240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A06-6987-4968-BB29-3D9F249A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E871E-E928-454C-B07D-E7F4E4A4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5E6B8-C22D-47E6-8DE4-A230FD49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B0CA9-2C74-40BF-B596-7B89D5F5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3D7C8-A8BF-458D-B73F-F9C9B489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FE9A1-E7B7-4F38-8685-103CCC21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C81D0-E92A-4AC1-8FD5-4161DD52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62CB1-E0CF-4FF2-BBFF-F5264906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3847B-210B-4B06-BBD6-F85E02B3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3053C-4B1C-418B-81C4-5AFDF796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347A9-B926-4810-B748-ED6F476B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707-39E2-422C-BE89-81DB3B3A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697CC-0D22-43D8-A7CE-C110118A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98C72-437A-45B9-81CA-EC5321B3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75CAE-E34C-49F8-A00D-6716B22C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06CE1-965E-475A-9F8D-82F6D0F6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A7C1E-DE20-44DE-B5F0-8979CAFB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95228-60FC-4813-B4A2-68BCDBBE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47A70-9952-406E-B371-93A521B6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1ABE5-5DB6-4CCF-A9EC-3C1A32C0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1D375-E110-410B-9FA0-C502369D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30946-2C59-4890-BAD0-112AC0B1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EA7-792B-4A9D-8148-0041501F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59C65-0A76-4407-8DE3-C4ECB5B7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9E2A1-D58D-44AE-A161-AB898315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2ED7E-9942-4A78-8BAE-7578ACF6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8A8A1-73FB-424D-BD69-52ACBBF4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03446-27D0-4B44-84B5-1E1696B7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65198-77E1-48F3-BFD9-39C819A7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88E5F-A60E-43CC-A48B-3935ADD2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2F2FB-D7CD-4785-AB25-043336C4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AF807-D1F3-4514-B2FD-86A45E78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E154F-E2A0-4484-A895-A7D519C7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1410-93A8-4ABE-862F-2D9845C3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EB983-7375-40D1-9721-30BEF0CB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A6B7B-2C38-42CA-AB57-9CD21548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7B426-C924-4E17-AD5B-1FF7AE7E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B00FF-9FE0-4EDD-AA3A-71476F94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13B7B-456C-499F-8306-F9616774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1E1B9-2C7F-40D3-B4D9-7EFE6CD9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0C5FF-0AD5-407E-B578-43BD966D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A174C-D763-4F28-899D-3DD7645F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38435-619E-4C7E-97D2-0026E853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697BB-CA09-4951-9967-8495279B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2BA4-D47D-4045-8259-C90BB0E2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634B8-F811-4F25-B308-FA97EB46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66FDC-A63B-437F-8BC2-56E9E000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86F03-D500-4182-85D8-8AC71AAA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56BF7-5929-410D-980A-10E1C32D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2C04F-194E-4A60-A5D6-BD3CA592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B1D1C-0C22-44C1-B484-7DAB264E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6970D-1DE8-44B6-B400-F4362C15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4217D-27C4-4A94-9479-903FDDC4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A0354-B356-4EA9-8629-841066F6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D44DC-4EEE-4289-9B25-02F600E7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41D4-7E9D-458D-9C61-8C0731A6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A6ED9-230F-4A7A-A490-AF907CB2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9EAEF-5A90-4BC6-8BD6-81339CB1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4FC2F-B8C1-477D-A4FE-ACFF68A2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FCF59-526C-480C-871A-9219F03C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A7265-F085-4FDF-9D7A-532BCF83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586AB-35C6-47A8-980C-17E17BF6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0D623-202D-4DD1-BE19-7E311999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4AEC-59C2-47F6-BAF0-593F9AAF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8ED2-61AC-45A5-BFEC-07B01E39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B2AA-5D7C-44B5-A4E6-94F15924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3FB3-F192-4307-AD9B-187BD9BE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9D1-57FF-47F4-B76C-1129ADAC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2A5F-D08E-4C4E-A48E-DFCCDEE9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BB42-F60D-4481-8CF7-52F6ECEE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D0FD-43E8-4E77-A4F8-254BE0CE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257B-E1A4-447E-845E-514FBA69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8CEA-C384-45D7-AD9C-7929B7E2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91568-084C-45C2-A9E5-6CC777C9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35BFD-A873-4E2A-89CE-B2D11AE2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D242A-95DD-44C1-90E8-236717A0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DDF6-6EB1-46DB-8627-A92C1056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6519A-984F-4478-B8D5-5A97A205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26B-6B75-466E-AC5C-D7EB341A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0FE0B-F72C-4E58-BB89-6ACBC423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3891B-13BB-4D90-8DC5-64DCFE69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1D380-A9CF-4FB7-8EF3-B750FC75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1BCB-EB54-4FC7-8950-70EA4E86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0219B-0E6B-4FAA-B4EE-FE50AC57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23642-E15F-4DAE-B53F-867099D3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DF61F-2651-49B4-B49F-D903BDC3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32425-56A8-418B-BEC4-46E0EA17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5D5C-7826-4B22-A56B-31A42528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F7A19-AF09-4AE9-ACD2-12D2787C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2F0-33ED-4F8B-8FC4-3F0CF659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303D5-241F-40B8-96D5-6C866058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E629A-665A-4AEC-99C1-24953912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3DBC4-BEA7-43D6-AD9E-68C2A48F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5C6C3-BDC7-4E66-932C-7D01C7E8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6ADD0-B209-4A7F-B224-8B8F0CAD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B6D4D-B8C3-421E-95E3-96BE4B39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F309E-2C4D-43B1-90A2-04258867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81596-B831-4B2B-9D8E-8466B74C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7EE74-77A4-466B-A82D-B0780742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E7F33-D151-4E89-800C-DC766339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BF0-D21A-4665-ACC8-5C02FF04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EC627-D843-4167-BF22-A5748BF9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CFF24-9549-4E57-B830-C9C3BEB4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15D56-BBFD-44F3-AEC3-AD4930FA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57694-2C7D-4B98-B1F1-3B09F9C3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B1274-A307-464B-B318-87095589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79A0B-BF9B-434D-BF1B-DF525A4F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04FC9-7D46-413F-B500-0F1A2EBF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BAA2B-0EE9-4658-A58B-450268C4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83E26-3BEC-4E65-ADB7-26549D4B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27A9F-9BDF-43E3-A2F4-217FDD14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E3E-E000-423F-AF0B-0485A346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C26FD-7F1D-492B-ABDB-4E7E7C39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CFFA9-8AA1-4BB1-B24A-320DE374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90317-95DB-479A-8AEC-E41127D7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023D6-4FAB-4C81-82A0-C9E2BB4D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35393-274D-43D0-907F-34FD6888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367AA-37E3-4E19-BF23-8711F69A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A4C96-BF00-4CAA-BFB9-90AF18FA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1656B-60F8-4DE2-937D-1D1E1DE9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B5AB4-E2E6-4129-B212-76A4D2C0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FFB44-FA3A-40BC-9CEE-549800E0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8BD-FB1D-43D2-A5C8-CF98017B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8DC16-820B-4F27-925E-6B9E2A95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76A8A-F2A5-41B5-8725-3E4BD471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4B1E2-5C30-4E95-972F-3A981D66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A899F-52EC-479E-A9CA-1D71AEBE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F0463-6ABA-4957-97AA-51414276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81876-2B26-4A76-BED2-14E3D2AD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DCB2F-554B-4610-9C55-36DAEFCA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53680-F0B6-4C17-824D-5486C657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A9BFE-2E21-4FA7-B8C2-901714E0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750A7-9321-4F55-B0A6-A7717733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02D-D059-4E9E-B5DD-E3652371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459BE-E471-4183-8450-B3048198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97FD0-F3D3-458C-A8A3-59680366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101DB-1D02-462D-ADC8-014A1E45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3D830-8681-43BE-9E97-1DCAE125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4CB85-96BC-482C-9798-AE94F838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F4E4C-AE68-47E6-8B66-3B4BDBFB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E2CD2-0E5F-4D4E-A0D3-360D4715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C8786-3329-4DD9-B38C-8A20E236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5FA39-C03A-4443-BF7A-E9994416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EF053-5909-44C3-88A8-5E657BB9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8BB-7B80-4E5C-9808-4B666649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AA8A6-63FF-4A60-8641-D5108AF5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3136B-B4DB-4252-B7E9-412C62E9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4BA90-9902-42C7-9C91-76181CBC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04879-3363-47AD-96A3-987DEA36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932F2-F475-4D0B-8078-62FFA19E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AD626-07D8-42A3-BBF7-F8AD48B8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488A4-2D35-4D45-A217-8AA9BF89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066A6-94E9-4205-A726-0F653515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F8ACD-59E2-4AC2-81FE-5AB1CDE4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F9EB5-9D3A-47F1-A83E-3B247C98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71DD-0E7B-470F-8A32-8C42BE31CE3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手繪多邊形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手繪多邊形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16" name="直線接點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17" name="＞形箭號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＞形箭號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36C1-565C-440B-B80B-48E6B34532F8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BC68-BDE1-4B62-998B-645A5122DAD9}" type="slidenum"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2123-B18B-4C84-A8EA-E9F2F8E9A51E}" type="slidenum"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66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66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66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8168-F254-4AD5-B767-AA656F94139F}" type="slidenum">
              <a:rPr b="0" lang="zh-TW" sz="1400" spc="-1" strike="noStrike">
                <a:solidFill>
                  <a:srgbClr val="006666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48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49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51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52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4" name="圖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mbri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918C-0F43-43CA-9877-2C904378FA32}" type="slidenum">
              <a:rPr b="0" lang="zh-TW" sz="1200" spc="-1" strike="noStrike">
                <a:solidFill>
                  <a:srgbClr val="898989"/>
                </a:solidFill>
                <a:latin typeface="Cambri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0F08-B936-4E44-90B2-2C7CED8D2032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3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9" name="手繪多邊形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0" name="手繪多邊形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141" name="手繪多邊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42" name="手繪多邊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144" name="直線接點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43AE-DCDB-40E0-8AED-52A682A93B04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1" name="直線接點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＞形箭號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B3F0-5C1D-441B-96E7-332D412AFAD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40" name="直線接點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3B88-DE12-4A42-95D4-9E5B56A16EB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AA49-1F9F-4BAC-8743-A517D55B183A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手繪多邊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手繪多邊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8" name="直線接點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A6FC-980E-4E2C-8284-E3543E6080D0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05E6-38A6-4E4F-9592-F081DFEE474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標題 1" descr=""/>
          <p:cNvPicPr/>
          <p:nvPr/>
        </p:nvPicPr>
        <p:blipFill>
          <a:blip r:embed="rId1"/>
          <a:stretch/>
        </p:blipFill>
        <p:spPr>
          <a:xfrm>
            <a:off x="-30240" y="115920"/>
            <a:ext cx="8966160" cy="233532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0" y="249984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Group Member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595959"/>
                </a:solidFill>
                <a:latin typeface="微軟正黑體"/>
              </a:rPr>
              <a:t>林孟洵 </a:t>
            </a:r>
            <a:r>
              <a:rPr b="1" lang="en-US" sz="2600" spc="-1" strike="noStrike">
                <a:solidFill>
                  <a:srgbClr val="595959"/>
                </a:solidFill>
                <a:latin typeface="微軟正黑體"/>
              </a:rPr>
              <a:t>(E3B) </a:t>
            </a:r>
            <a:r>
              <a:rPr b="1" lang="en-US" sz="31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4964102297</a:t>
            </a:r>
            <a:r>
              <a:rPr b="1" lang="zh-TW" sz="3200" spc="-1" strike="noStrike">
                <a:solidFill>
                  <a:srgbClr val="595959"/>
                </a:solidFill>
                <a:latin typeface="Lucida Sans Unicode"/>
              </a:rPr>
              <a:t>  </a:t>
            </a:r>
            <a:r>
              <a:rPr b="1" lang="zh-TW" sz="2600" spc="-1" strike="noStrike">
                <a:solidFill>
                  <a:srgbClr val="595959"/>
                </a:solidFill>
                <a:latin typeface="微軟正黑體"/>
              </a:rPr>
              <a:t>王瀅瀅</a:t>
            </a:r>
            <a:r>
              <a:rPr b="1" lang="zh-TW" sz="2300" spc="-1" strike="noStrike">
                <a:solidFill>
                  <a:srgbClr val="595959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595959"/>
                </a:solidFill>
                <a:latin typeface="微軟正黑體"/>
              </a:rPr>
              <a:t>(</a:t>
            </a:r>
            <a:r>
              <a:rPr b="1" lang="en-US" sz="2600" spc="-1" strike="noStrike">
                <a:solidFill>
                  <a:srgbClr val="595959"/>
                </a:solidFill>
                <a:latin typeface="微軟正黑體"/>
              </a:rPr>
              <a:t>E4C )</a:t>
            </a:r>
            <a:r>
              <a:rPr b="1" lang="en-US" sz="3200" spc="-1" strike="noStrike">
                <a:solidFill>
                  <a:srgbClr val="595959"/>
                </a:solidFill>
                <a:latin typeface="Aharoni"/>
                <a:ea typeface="Aharoni"/>
              </a:rPr>
              <a:t> </a:t>
            </a:r>
            <a:r>
              <a:rPr b="1" lang="en-US" sz="32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49541072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767c"/>
                </a:solidFill>
                <a:latin typeface="Arial Unicode MS"/>
                <a:ea typeface="Arial Unicode MS"/>
              </a:rPr>
              <a:t>Joanna                            Linl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595959"/>
                </a:solidFill>
                <a:latin typeface="Lucida Sans Unicode"/>
              </a:rPr>
              <a:t>林政言</a:t>
            </a:r>
            <a:r>
              <a:rPr b="1" lang="en-US" sz="3100" spc="-1" strike="noStrike">
                <a:solidFill>
                  <a:srgbClr val="595959"/>
                </a:solidFill>
                <a:latin typeface="Aharoni"/>
                <a:ea typeface="Aharoni"/>
              </a:rPr>
              <a:t> </a:t>
            </a:r>
            <a:r>
              <a:rPr b="1" lang="en-US" sz="2600" spc="-1" strike="noStrike">
                <a:solidFill>
                  <a:srgbClr val="595959"/>
                </a:solidFill>
                <a:latin typeface="微軟正黑體"/>
                <a:ea typeface="Aharoni"/>
              </a:rPr>
              <a:t>(E4A)</a:t>
            </a:r>
            <a:r>
              <a:rPr b="1" lang="en-US" sz="2600" spc="-1" strike="noStrike">
                <a:solidFill>
                  <a:srgbClr val="595959"/>
                </a:solidFill>
                <a:latin typeface="Aharoni"/>
                <a:ea typeface="Aharoni"/>
              </a:rPr>
              <a:t> </a:t>
            </a:r>
            <a:r>
              <a:rPr b="1" lang="en-US" sz="32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495415189</a:t>
            </a:r>
            <a:r>
              <a:rPr b="1" lang="en-US" sz="3200" spc="-1" strike="noStrike">
                <a:solidFill>
                  <a:srgbClr val="595959"/>
                </a:solidFill>
                <a:latin typeface="Aharoni"/>
                <a:ea typeface="Aharoni"/>
              </a:rPr>
              <a:t>  </a:t>
            </a:r>
            <a:r>
              <a:rPr b="1" lang="zh-TW" sz="2600" spc="-1" strike="noStrike">
                <a:solidFill>
                  <a:srgbClr val="595959"/>
                </a:solidFill>
                <a:latin typeface="Lucida Sans Unicode"/>
              </a:rPr>
              <a:t>陳含佳</a:t>
            </a:r>
            <a:r>
              <a:rPr b="1" lang="en-US" sz="2600" spc="-1" strike="noStrike">
                <a:solidFill>
                  <a:srgbClr val="595959"/>
                </a:solidFill>
                <a:latin typeface="微軟正黑體"/>
                <a:ea typeface="Aharoni"/>
              </a:rPr>
              <a:t>(E3B)</a:t>
            </a:r>
            <a:r>
              <a:rPr b="1" lang="zh-TW" sz="2600" spc="-1" strike="noStrike">
                <a:solidFill>
                  <a:srgbClr val="595959"/>
                </a:solidFill>
                <a:latin typeface="Aharoni"/>
                <a:ea typeface="Aharoni"/>
              </a:rPr>
              <a:t> </a:t>
            </a:r>
            <a:r>
              <a:rPr b="1" lang="en-US" sz="35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496410629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c767c"/>
                </a:solidFill>
                <a:latin typeface="Arial Unicode MS"/>
                <a:ea typeface="Arial Unicode MS"/>
              </a:rPr>
              <a:t>Roy                             Anne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4e74"/>
                </a:solidFill>
                <a:latin typeface="Maiandra GD"/>
              </a:rPr>
              <a:t>Place of Articulation</a:t>
            </a:r>
            <a:br>
              <a:rPr sz="4000"/>
            </a:br>
            <a:endParaRPr b="0" lang="en-US" sz="40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641" name="Picture 9" descr="img001"/>
          <p:cNvPicPr/>
          <p:nvPr/>
        </p:nvPicPr>
        <p:blipFill>
          <a:blip r:embed="rId1"/>
          <a:stretch/>
        </p:blipFill>
        <p:spPr>
          <a:xfrm>
            <a:off x="-285840" y="1357200"/>
            <a:ext cx="5929560" cy="49294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8"/>
          <p:cNvSpPr/>
          <p:nvPr/>
        </p:nvSpPr>
        <p:spPr>
          <a:xfrm>
            <a:off x="5286240" y="1643040"/>
            <a:ext cx="3311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mbria"/>
                <a:ea typeface="新細明體"/>
              </a:rPr>
              <a:t>1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. bilabial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2. labiod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3. d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4. alveo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5. pala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6. ve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7.uvu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8. glot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1680" y="2714760"/>
            <a:ext cx="43574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  <a:ea typeface="新細明體"/>
              </a:rPr>
              <a:t>Conclusion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Depending on students’ language background, </a:t>
            </a:r>
            <a:r>
              <a:rPr b="1" lang="en-US" sz="2700" spc="-1" strike="noStrike" u="sng">
                <a:solidFill>
                  <a:srgbClr val="eb641b"/>
                </a:solidFill>
                <a:uFillTx/>
                <a:latin typeface="Lucida Sans Unicode"/>
              </a:rPr>
              <a:t>certain consonants </a:t>
            </a: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will be harder for them to distinguish than oth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Which contrasts are most difficult for students, more focused </a:t>
            </a:r>
            <a:r>
              <a:rPr b="1" lang="en-US" sz="2700" spc="-1" strike="noStrike" u="sng">
                <a:solidFill>
                  <a:srgbClr val="eb641b"/>
                </a:solidFill>
                <a:uFillTx/>
                <a:latin typeface="Lucida Sans Unicode"/>
              </a:rPr>
              <a:t>exercises</a:t>
            </a: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 can be design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5" name="標題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83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35712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ESL/EFL learners problematic consonant sounds can be described using a combination of </a:t>
            </a:r>
            <a:r>
              <a:rPr b="1" lang="en-US" sz="2700" spc="-1" strike="noStrike">
                <a:solidFill>
                  <a:srgbClr val="eb641b"/>
                </a:solidFill>
                <a:latin typeface="Lucida Sans Unicode"/>
              </a:rPr>
              <a:t>drawings, visual props, and word and sentence dri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Be aware of which individual sounds and which sound contrasts may cause students difficulty.  E.g. </a:t>
            </a:r>
            <a:r>
              <a:rPr b="1" lang="en-US" sz="2700" spc="-1" strike="noStrike">
                <a:solidFill>
                  <a:srgbClr val="eb641b"/>
                </a:solidFill>
                <a:latin typeface="Lucida Sans Unicode"/>
              </a:rPr>
              <a:t>homogeneous </a:t>
            </a: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and </a:t>
            </a:r>
            <a:r>
              <a:rPr b="1" lang="en-US" sz="2700" spc="-1" strike="noStrike">
                <a:solidFill>
                  <a:srgbClr val="eb641b"/>
                </a:solidFill>
                <a:latin typeface="Lucida Sans Unicode"/>
              </a:rPr>
              <a:t>heterogeneou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04040"/>
                </a:solidFill>
                <a:latin typeface="Lucida Sans Unicode"/>
              </a:rPr>
              <a:t>language backgrou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7" name="標題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83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Lucida Sans Unicode"/>
              </a:rPr>
              <a:t>Celce-Murcia, D. Teaching Pronunciation, p48~5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Lucida Sans Unicode"/>
              </a:rPr>
              <a:t>Victoria Fromkin ,Robert Rodman, An Introduction to Language, p227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9" name="標題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Tip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Teaching consonants is how detailed an analysis to present to the stud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Classifying consonants according to their features can greatly assist stud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6" name="標題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500040" y="135720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To present consonants in this manner, special attention should be paid to the symbols that differ from regular spelling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/ʃ/, /ʒ/, /t ʃ/,/dʒ/, /</a:t>
            </a:r>
            <a:r>
              <a:rPr b="1" lang="el-GR" sz="2700" spc="-1" strike="noStrike">
                <a:solidFill>
                  <a:srgbClr val="595959"/>
                </a:solidFill>
                <a:latin typeface="Lucida Sans Unicode"/>
              </a:rPr>
              <a:t>θ</a:t>
            </a: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/,/ð/,/ ŋ / ,and to sound contrasts that do not exist in the students’ first langua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Lucida Sans Unicode"/>
              </a:rPr>
              <a:t>All-skills classes in which there is time to focus on fluency rather than accura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8" name="標題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"/>
          <p:cNvGraphicFramePr/>
          <p:nvPr/>
        </p:nvGraphicFramePr>
        <p:xfrm>
          <a:off x="571680" y="928800"/>
          <a:ext cx="8143560" cy="4957560"/>
        </p:xfrm>
        <a:graphic>
          <a:graphicData uri="http://schemas.openxmlformats.org/drawingml/2006/table">
            <a:tbl>
              <a:tblPr/>
              <a:tblGrid>
                <a:gridCol w="1122120"/>
                <a:gridCol w="963720"/>
                <a:gridCol w="1122480"/>
                <a:gridCol w="863280"/>
                <a:gridCol w="1017720"/>
                <a:gridCol w="1004760"/>
                <a:gridCol w="1032120"/>
                <a:gridCol w="10173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anner of Arti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TABLE3.3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TUDENT WORKSHEET: CLASSIFICATION OF NAE CONSONANT PHO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lab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abio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veo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ala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e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lot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文字方塊 5"/>
          <p:cNvSpPr/>
          <p:nvPr/>
        </p:nvSpPr>
        <p:spPr>
          <a:xfrm>
            <a:off x="571680" y="2142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4e74"/>
                </a:solidFill>
                <a:latin typeface="新細明體"/>
                <a:ea typeface="新細明體"/>
              </a:rPr>
              <a:t>p.4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Lucida Sans Unicode"/>
              </a:rPr>
              <a:t>The type of obstacle course the air takes, referred to as th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Lucida Sans Unicode"/>
              </a:rPr>
              <a:t>manner of articulation</a:t>
            </a:r>
            <a:r>
              <a:rPr b="1" lang="en-US" sz="3600" spc="-1" strike="noStrike">
                <a:solidFill>
                  <a:srgbClr val="404040"/>
                </a:solidFill>
                <a:latin typeface="Lucida Sans Unicode"/>
              </a:rPr>
              <a:t>, is another distinguish feature of how consonants are produced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2" name="標題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a1f28"/>
                </a:solidFill>
                <a:latin typeface="Lucida Sans Unicode"/>
              </a:rPr>
              <a:t>Stop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The airstream is 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stopped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or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blacked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completely prior to releas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a1f28"/>
                </a:solidFill>
                <a:latin typeface="Lucida Sans Unicode"/>
              </a:rPr>
              <a:t>Fricative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Air is 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forced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through a narrow passageway in the mouth of throat creat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a1f28"/>
                </a:solidFill>
                <a:latin typeface="Lucida Sans Unicode"/>
              </a:rPr>
              <a:t>Affricative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The sound begins as a 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stop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404040"/>
                </a:solidFill>
                <a:latin typeface="Lucida Sans Unicode"/>
              </a:rPr>
              <a:t>and is then released as a</a:t>
            </a:r>
            <a:r>
              <a:rPr b="1" lang="en-US" sz="2300" spc="-1" strike="noStrike">
                <a:solidFill>
                  <a:srgbClr val="ff3300"/>
                </a:solidFill>
                <a:latin typeface="Lucida Sans Unicode"/>
              </a:rPr>
              <a:t> fricative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4" name="標題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1428840" y="2143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641b"/>
                </a:solidFill>
                <a:latin typeface="Lucida Sans Unicode"/>
              </a:rPr>
              <a:t>/p/</a:t>
            </a:r>
            <a:r>
              <a:rPr b="0" lang="en-US" sz="1800" spc="-1" strike="noStrike">
                <a:solidFill>
                  <a:srgbClr val="eb641b"/>
                </a:solidFill>
                <a:latin typeface="Lucida Sans Unicode"/>
              </a:rPr>
              <a:t> , </a:t>
            </a:r>
            <a:r>
              <a:rPr b="1" lang="en-US" sz="1800" spc="-1" strike="noStrike">
                <a:solidFill>
                  <a:srgbClr val="eb641b"/>
                </a:solidFill>
                <a:latin typeface="Lucida Sans Unicode"/>
              </a:rPr>
              <a:t>/b/</a:t>
            </a:r>
            <a:r>
              <a:rPr b="0" lang="en-US" sz="1800" spc="-1" strike="noStrike">
                <a:solidFill>
                  <a:srgbClr val="eb641b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14288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641b"/>
                </a:solidFill>
                <a:latin typeface="Lucida Sans Unicode"/>
              </a:rPr>
              <a:t>/f/ , /v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1357200" y="49291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641b"/>
                </a:solidFill>
                <a:latin typeface="Lucida Sans Unicode"/>
              </a:rPr>
              <a:t>/tʃ/ , /d ʒ 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95280" y="9806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Lucida Sans Unicode"/>
              </a:rPr>
              <a:t>Nasal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Continuous air is released through the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</a:rPr>
              <a:t>nasal cavity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while the speech organs assume a stoplike posi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Lucida Sans Unicode"/>
              </a:rPr>
              <a:t>Liquid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There is some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</a:rPr>
              <a:t>obstruction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of the airstream in the mouth, but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</a:rPr>
              <a:t>not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nough to cause any real constriction or fric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Sans Unicode"/>
              </a:rPr>
              <a:t>Glide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They are always followed</a:t>
            </a:r>
            <a:r>
              <a:rPr b="1" lang="en-US" sz="2800" spc="-1" strike="noStrike">
                <a:solidFill>
                  <a:srgbClr val="da1f28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</a:rPr>
              <a:t>directly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by a vowe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9" name="標題 2" descr=""/>
          <p:cNvPicPr/>
          <p:nvPr/>
        </p:nvPicPr>
        <p:blipFill>
          <a:blip r:embed="rId1"/>
          <a:stretch/>
        </p:blipFill>
        <p:spPr>
          <a:xfrm>
            <a:off x="179280" y="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4"/>
          <p:cNvSpPr/>
          <p:nvPr/>
        </p:nvSpPr>
        <p:spPr>
          <a:xfrm>
            <a:off x="1332000" y="2421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m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n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1403280" y="422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l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r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140328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w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/y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4e74"/>
                </a:solidFill>
                <a:latin typeface="Maiandra GD"/>
              </a:rPr>
              <a:t>Place of Articulation</a:t>
            </a:r>
            <a:br>
              <a:rPr sz="4000"/>
            </a:br>
            <a:endParaRPr b="0" lang="en-US" sz="40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604" name="Picture 9" descr="img001"/>
          <p:cNvPicPr/>
          <p:nvPr/>
        </p:nvPicPr>
        <p:blipFill>
          <a:blip r:embed="rId1"/>
          <a:stretch/>
        </p:blipFill>
        <p:spPr>
          <a:xfrm>
            <a:off x="-285840" y="1357200"/>
            <a:ext cx="5929560" cy="49294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8"/>
          <p:cNvSpPr/>
          <p:nvPr/>
        </p:nvSpPr>
        <p:spPr>
          <a:xfrm>
            <a:off x="5286240" y="1643040"/>
            <a:ext cx="3311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mbria"/>
                <a:ea typeface="新細明體"/>
              </a:rPr>
              <a:t>1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. bilabial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2. labiod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3. d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4. alveo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5. (alveo)pala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6. ve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7.uvu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新細明體"/>
                <a:ea typeface="新細明體"/>
              </a:rPr>
              <a:t>8. glot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b36"/>
                </a:solidFill>
                <a:latin typeface="Maiandra GD"/>
              </a:rPr>
              <a:t>p49.</a:t>
            </a:r>
            <a:endParaRPr b="0" lang="en-US" sz="1800" spc="-1" strike="noStrike">
              <a:solidFill>
                <a:srgbClr val="001b36"/>
              </a:solidFill>
              <a:latin typeface="Maiandra GD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571680" y="642960"/>
          <a:ext cx="8072280" cy="5357880"/>
        </p:xfrm>
        <a:graphic>
          <a:graphicData uri="http://schemas.openxmlformats.org/drawingml/2006/table">
            <a:tbl>
              <a:tblPr/>
              <a:tblGrid>
                <a:gridCol w="1508040"/>
                <a:gridCol w="863640"/>
                <a:gridCol w="981000"/>
                <a:gridCol w="804960"/>
                <a:gridCol w="914400"/>
                <a:gridCol w="901440"/>
                <a:gridCol w="927360"/>
                <a:gridCol w="1171440"/>
              </a:tblGrid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anner of Arti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TABLE3.3    STUDENT WORKSHEET: CLASSIFICATION OF NAE CONSONANT PHO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lab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abio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veo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ala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e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lot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Text Box 179"/>
          <p:cNvSpPr/>
          <p:nvPr/>
        </p:nvSpPr>
        <p:spPr>
          <a:xfrm>
            <a:off x="571680" y="1428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Text Box 180"/>
          <p:cNvSpPr/>
          <p:nvPr/>
        </p:nvSpPr>
        <p:spPr>
          <a:xfrm>
            <a:off x="571680" y="221472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Fricativ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Text Box 181"/>
          <p:cNvSpPr/>
          <p:nvPr/>
        </p:nvSpPr>
        <p:spPr>
          <a:xfrm>
            <a:off x="571680" y="30002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Affricat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Text Box 182"/>
          <p:cNvSpPr/>
          <p:nvPr/>
        </p:nvSpPr>
        <p:spPr>
          <a:xfrm>
            <a:off x="571680" y="3714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Nasa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Text Box 183"/>
          <p:cNvSpPr/>
          <p:nvPr/>
        </p:nvSpPr>
        <p:spPr>
          <a:xfrm>
            <a:off x="571680" y="4500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Text Box 184"/>
          <p:cNvSpPr/>
          <p:nvPr/>
        </p:nvSpPr>
        <p:spPr>
          <a:xfrm>
            <a:off x="571680" y="52862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mbria"/>
                <a:ea typeface="新細明體"/>
              </a:rPr>
              <a:t>Glid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Text Box 185"/>
          <p:cNvSpPr/>
          <p:nvPr/>
        </p:nvSpPr>
        <p:spPr>
          <a:xfrm>
            <a:off x="2050920" y="141300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p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Text Box 186"/>
          <p:cNvSpPr/>
          <p:nvPr/>
        </p:nvSpPr>
        <p:spPr>
          <a:xfrm>
            <a:off x="2050920" y="1773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b</a:t>
            </a:r>
            <a:r>
              <a:rPr b="1" lang="en-US" sz="1200" spc="-1" strike="noStrike">
                <a:solidFill>
                  <a:srgbClr val="0000ff"/>
                </a:solidFill>
                <a:latin typeface="Cambria"/>
                <a:ea typeface="新細明體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Text Box 187"/>
          <p:cNvSpPr/>
          <p:nvPr/>
        </p:nvSpPr>
        <p:spPr>
          <a:xfrm>
            <a:off x="2050920" y="3860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m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Text Box 189"/>
          <p:cNvSpPr/>
          <p:nvPr/>
        </p:nvSpPr>
        <p:spPr>
          <a:xfrm>
            <a:off x="2000160" y="535788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mbria"/>
                <a:ea typeface="新細明體"/>
              </a:rPr>
              <a:t>(/hw/) </a:t>
            </a:r>
            <a:r>
              <a:rPr b="1" lang="zh-TW" sz="1600" spc="-1" strike="noStrike" baseline="30000">
                <a:solidFill>
                  <a:srgbClr val="000000"/>
                </a:solidFill>
                <a:latin typeface="Cambria"/>
                <a:ea typeface="新細明體"/>
              </a:rPr>
              <a:t>＊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Text Box 188"/>
          <p:cNvSpPr/>
          <p:nvPr/>
        </p:nvSpPr>
        <p:spPr>
          <a:xfrm>
            <a:off x="2071800" y="5643720"/>
            <a:ext cx="7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w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Text Box 190"/>
          <p:cNvSpPr/>
          <p:nvPr/>
        </p:nvSpPr>
        <p:spPr>
          <a:xfrm>
            <a:off x="3059280" y="2205000"/>
            <a:ext cx="7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f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Text Box 191"/>
          <p:cNvSpPr/>
          <p:nvPr/>
        </p:nvSpPr>
        <p:spPr>
          <a:xfrm>
            <a:off x="2987640" y="256536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v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Text Box 192"/>
          <p:cNvSpPr/>
          <p:nvPr/>
        </p:nvSpPr>
        <p:spPr>
          <a:xfrm>
            <a:off x="4000680" y="2214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θ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Text Box 193"/>
          <p:cNvSpPr/>
          <p:nvPr/>
        </p:nvSpPr>
        <p:spPr>
          <a:xfrm>
            <a:off x="3929040" y="25718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ð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文字方塊 95"/>
          <p:cNvSpPr/>
          <p:nvPr/>
        </p:nvSpPr>
        <p:spPr>
          <a:xfrm>
            <a:off x="4716360" y="14130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t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文字方塊 96"/>
          <p:cNvSpPr/>
          <p:nvPr/>
        </p:nvSpPr>
        <p:spPr>
          <a:xfrm>
            <a:off x="4716360" y="17733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d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文字方塊 97"/>
          <p:cNvSpPr/>
          <p:nvPr/>
        </p:nvSpPr>
        <p:spPr>
          <a:xfrm>
            <a:off x="4788000" y="220500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s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文字方塊 98"/>
          <p:cNvSpPr/>
          <p:nvPr/>
        </p:nvSpPr>
        <p:spPr>
          <a:xfrm>
            <a:off x="478800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z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文字方塊 99"/>
          <p:cNvSpPr/>
          <p:nvPr/>
        </p:nvSpPr>
        <p:spPr>
          <a:xfrm>
            <a:off x="4714920" y="38577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n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文字方塊 100"/>
          <p:cNvSpPr/>
          <p:nvPr/>
        </p:nvSpPr>
        <p:spPr>
          <a:xfrm>
            <a:off x="4714920" y="4572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l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文字方塊 101"/>
          <p:cNvSpPr/>
          <p:nvPr/>
        </p:nvSpPr>
        <p:spPr>
          <a:xfrm>
            <a:off x="4714920" y="49291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新細明體"/>
              </a:rPr>
              <a:t>(/r/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文字方塊 102"/>
          <p:cNvSpPr/>
          <p:nvPr/>
        </p:nvSpPr>
        <p:spPr>
          <a:xfrm>
            <a:off x="5786280" y="221472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ʃ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文字方塊 103"/>
          <p:cNvSpPr/>
          <p:nvPr/>
        </p:nvSpPr>
        <p:spPr>
          <a:xfrm>
            <a:off x="5786280" y="2571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ʒ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文字方塊 104"/>
          <p:cNvSpPr/>
          <p:nvPr/>
        </p:nvSpPr>
        <p:spPr>
          <a:xfrm>
            <a:off x="5715000" y="30002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tʃ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文字方塊 105"/>
          <p:cNvSpPr/>
          <p:nvPr/>
        </p:nvSpPr>
        <p:spPr>
          <a:xfrm>
            <a:off x="5643720" y="3357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dʒ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文字方塊 106"/>
          <p:cNvSpPr/>
          <p:nvPr/>
        </p:nvSpPr>
        <p:spPr>
          <a:xfrm>
            <a:off x="5786280" y="47149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r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文字方塊 107"/>
          <p:cNvSpPr/>
          <p:nvPr/>
        </p:nvSpPr>
        <p:spPr>
          <a:xfrm>
            <a:off x="5786280" y="54291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y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文字方塊 108"/>
          <p:cNvSpPr/>
          <p:nvPr/>
        </p:nvSpPr>
        <p:spPr>
          <a:xfrm>
            <a:off x="6572160" y="15001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k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文字方塊 109"/>
          <p:cNvSpPr/>
          <p:nvPr/>
        </p:nvSpPr>
        <p:spPr>
          <a:xfrm>
            <a:off x="6588000" y="17733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新細明體"/>
              </a:rPr>
              <a:t>/g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文字方塊 110"/>
          <p:cNvSpPr/>
          <p:nvPr/>
        </p:nvSpPr>
        <p:spPr>
          <a:xfrm>
            <a:off x="6643800" y="39290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 ŋ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文字方塊 112"/>
          <p:cNvSpPr/>
          <p:nvPr/>
        </p:nvSpPr>
        <p:spPr>
          <a:xfrm>
            <a:off x="7715160" y="242892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mbria"/>
                <a:ea typeface="新細明體"/>
              </a:rPr>
              <a:t>/h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44:44Z</dcterms:created>
  <dc:creator>user</dc:creator>
  <dc:description/>
  <dc:language>en-US</dc:language>
  <cp:lastModifiedBy>Customer</cp:lastModifiedBy>
  <dcterms:modified xsi:type="dcterms:W3CDTF">2010-04-11T10:24:33Z</dcterms:modified>
  <cp:revision>43</cp:revision>
  <dc:subject/>
  <dc:title>Teaching Pronunciation  The Sound of North America English</dc:title>
</cp:coreProperties>
</file>