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248-47E5-4136-88A0-A2F1A6BC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49E-B0B9-4220-915E-A5082AC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ACC9D-EEB6-4CE1-BF1C-21971304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07EDA-9689-4E59-AE2D-FE3076C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AEFE6-04F9-49C9-86CA-357BE9D3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C24AE-4BFA-49A4-9B2D-BEF268A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8F02B-ACF4-433F-8150-0F8C2C0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DA79D-F7D1-45D0-A1D9-86DFFF15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B5A13-23C4-4209-911B-CBA35210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FDA7D-AD30-46B2-84D3-19E49DE1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64A1D-96CF-4CD0-AE70-92A2D948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2B8E3-C335-4EA1-8E05-A3219142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719-015B-4FF4-9DA1-A2716308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69D3C-CC59-4B07-8B1B-B2068F41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41439-0138-4369-AFB2-C55CCB04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F96DC-7062-4B8F-B229-4936CC2C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5C8BD-5D47-4907-AE3B-D204DF13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74AEC-5D9D-45DA-9B02-B343CC29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C0F3E-8C74-452D-A9A6-94BC317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0C652-E1C6-4670-A669-B7875B38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01E9E-037D-4A93-A27F-55880E3C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50D93-5AC7-4648-83A3-ABDE69D4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48353-D387-4F82-80B5-6299A571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655-9B69-48F9-9384-D43D9823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2ADFB-5E2B-4FE8-8628-F844B170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81889-B605-4ABD-81AD-29E652FE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75B8D-8F34-4F80-ABDD-86083ACB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ABA49-046C-4EC3-8CDE-D7EDCF5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5DA03-1817-49C4-A136-D0B88439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B9A93-9D85-4F1A-8BAB-4DE45802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FE413-92D1-48E3-AE24-1BAC6CA2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04DA9-FE11-4366-B26E-8A2AC97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2E4A0-8584-4F09-BA39-8F85464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4EDEE-6974-424E-B710-077C734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5E6D-D2DF-4E24-8C26-7296D118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AA2E7-21E1-42A5-A98A-30E4E9DD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27F00-2DF1-4BFD-9673-05F2110E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9AE7B-361C-4B35-B193-45D9A865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E7816-AC41-460C-AB79-D1C80E7E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6532C-5EF2-4E4B-B551-1F4CF7FE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9EE03-86EE-4F01-A122-F2CC0714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A28C0-53FC-4598-AE14-E4F92D7D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150C2-0F9A-49E1-9144-A4D3CA3C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E82BD-A76C-4BF6-B63E-90AC7D38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328A2-0AF0-4A54-983C-372F43D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43B1-5273-43C3-AADA-DFA388E4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57E61-9449-4A4B-91B2-60C91579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473E3-9E16-4309-8340-D21C2005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C8E7C-8CF6-4B61-8CEA-1F364BCE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0B70C-648A-4114-8010-7B2AD668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9ED79-10A5-4473-8139-8F8FE31F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75FE7-37A0-48BD-9CBC-2FDD1B5E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AC447-023D-4D2F-9107-472503C7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FF03A-2F81-42A9-BA22-9D2FAC9A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97E24-15F6-49E5-A855-8B7E0AAE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E0987-97D4-4643-B840-9025D0D5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6870-0B30-4B7A-8FAA-2AA12AD7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3EB17-9BE4-4606-81D3-C6AF291B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B98C7-2016-4C3C-AB6F-FB7CC392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BB758-9414-488C-AEE8-EB929B4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76F75-3944-45EE-9AF1-F0B20233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F0CC7-BCAA-4AF0-8F22-67924462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700F4-8FBC-4385-A710-F81B5621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34684-D3D7-4446-905D-54072168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B45-23A6-422A-B353-8761E044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BE1A-E2B1-41F7-B4AB-B284226E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998D-794D-49C1-88C0-034EACE7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011A-8B62-42EE-96A8-1E83B6DD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AE5-4B68-4FB9-A033-4E29CD8E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0D80-4DFE-40A1-8BA2-1EBEE5A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1A60-6079-4272-BAC9-6331752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0C0F-5DF0-4058-B2D5-2B1D7874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B77A-4FFA-4C46-A33F-04BB5417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64F4-A863-4EFF-9820-E0F4B79D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E139-3BF6-4DB9-B1F1-BA1CDAB7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C066-3C55-466D-95AC-678AF520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10C2-90C9-4FBF-9057-7FB27F33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4037-B7A4-44BD-BDA9-7F4C91A6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0122-5CB7-481D-919E-F59D1919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FD7-365E-4894-894A-73899E19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53B3-6210-4213-AACD-D365E599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DA5C-428D-4588-BC43-410D6AF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3CA66-DA7C-4A8A-A5D1-0B5128D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130A-96D2-4291-8C5A-3C7B1802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E696-3952-4874-B1EB-0346FD87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65AC-061C-4DBE-A5B5-6E6673C1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E75D-66C0-42D6-9372-524ABC61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D887-3E9B-46CF-8BCF-ADB961CE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D66C-C254-43CC-ADC7-D2B2F406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B4CC-1172-4B3A-83EE-47DA390D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9CD-F4B0-48FE-BCAD-5A1BA533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DD731-7253-4BBA-8DD5-92189766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FC26-06F1-45A2-82F4-F5A38A18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0E3F0-358D-45EA-9B59-7E5BABE8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692A0-8F55-4D81-AE71-1F768C73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AA898-2676-4CB4-A14F-F6562607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0438-8CAD-4FA8-A980-B998DCF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F6819-F630-4713-9247-F51D4A9B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1CC1-EBB0-4CD3-96D1-7479C68F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5595-D426-4F70-B2E2-A6952DB2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D6239-E51C-4B28-B5D9-2C8727F6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BBA-F4C5-4D72-A600-6878F229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B042D-3FF3-41D1-A063-6FA984D3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AD462-4F93-49BD-BF62-993ECF68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BB046-1E94-4B15-A831-8AEA0F9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F7A56-D541-45A4-81BE-A208A4E6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AC96F-AD03-4C4A-BEE6-95F8EFA6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D5EAB-780F-4EE4-9795-0C384F26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91CAA-8DA8-424E-9EB9-84D4825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B411F-3E67-4386-B46B-6C74FDC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1CEE-C2CD-483F-873B-E4FFFBCF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5A9FF-71D4-453C-BA52-FEEE6632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939-17EE-4109-B65A-0CCFEDE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C973B-8BF5-4415-8F4C-701EE9D7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B2A74-A09F-4107-8ED2-BB51C053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5927-FD2D-4F13-A024-B9FCBC8F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34FB-47E7-4177-968B-C3BB8C68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1A99-2538-476C-B90C-BB3325AE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0857F-A6E8-421A-BD38-C3B49E6A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6DE51-8775-4E68-A279-3CE39628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B4132-E6D9-4F65-BBD4-43235910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FDF2-E035-4359-B48E-9C8F7C6A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57386-140E-4474-8D7B-E939D69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413-0635-4156-8847-3EABCECF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AD98B-ACB5-4C8C-AD03-90A45067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63E6D-78A0-4D03-9FE2-295D581E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465C-C0EF-477C-A260-00583A41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78E9-BFEA-4396-B8B0-CC47044E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D4C59-4D36-4E4F-894A-5BA97FDD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45D9B-9C77-4BC0-ACBF-26F463F3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CD345-B118-4BF3-B3BE-48FE91A6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3F7FD-F1D5-4A0A-B7D6-4773108F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BEF72-2F4F-4DFD-8994-ACA0EA24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A3043-FC73-4095-A393-84E5893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AC1-3BBB-4FF0-8790-D23EF8E2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AF97C-D106-4F84-835B-A72C1053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F57C-68E8-41DF-BA87-BBB30202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2EFBD-1DD4-4D8D-9863-66BCD4C8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8C88-9F53-4A72-82DD-4617532F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2A37-9167-4F55-8CFC-C489B86E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87E7-E280-4231-9D62-F594D30B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05FA2-F7D7-4448-9251-9BBB4861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1E431-01EB-46A0-9D3D-705AE0E4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1025B-D215-4E09-8A22-186903F7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FE618-426B-4BAB-9A02-EA9C4AB9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B01-ED18-4E4D-8309-20406B40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D41C-F57A-4617-93C3-D848C00A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A56C3-1788-494D-9C0D-F06B8092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9F6BD-D3D9-40B0-A71E-4EEEF8F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E4A28-43B6-4E1F-BD81-A61ACA7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7AEA-7978-4B8C-8BC4-EFF7B115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45285-4B00-41B9-9BE0-EFE89A54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93654-4995-4538-86C8-07C20CB4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A768C-BD68-45F7-B0E3-5BB80712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F62C6-605C-4556-B4AC-CA824BA2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69C4C-BF06-4C23-BCD7-7D330094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E848-5DF5-4C50-9A46-F058A9D146A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手繪多邊形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手繪多邊形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16" name="直線接點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7" name="＞形箭號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＞形箭號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56AD-9971-4EC0-8122-991B33819E7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226B-13C3-44F7-9522-E635DCC428F4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DD00-8A31-49A3-9E69-8196B805086A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66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66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66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E68E-EADE-4142-A9D6-87921CD9559E}" type="slidenum">
              <a:rPr b="0" lang="zh-TW" sz="1400" spc="-1" strike="noStrike">
                <a:solidFill>
                  <a:srgbClr val="006666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48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49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1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2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4" name="圖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8653-0DC0-407D-A566-4FEB76D1F065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0E82-E3CE-46DE-95DD-4F63C125C4B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3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9" name="手繪多邊形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0" name="手繪多邊形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141" name="手繪多邊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42" name="手繪多邊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144" name="直線接點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4A01-0EF3-4548-9D61-0BCA34A69591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1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＞形箭號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F960-A2BE-4405-AEE6-D2BEC2999CA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40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D8AD-FBAF-4D2F-85AA-8CCF109DD6BC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BADE-CF7C-4C52-82BC-07FD7005FC2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8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7A6E-64FD-443B-ACB6-678597B3BB5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A13B-9264-466F-8E72-48C9D84D20B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標題 1" descr=""/>
          <p:cNvPicPr/>
          <p:nvPr/>
        </p:nvPicPr>
        <p:blipFill>
          <a:blip r:embed="rId1"/>
          <a:stretch/>
        </p:blipFill>
        <p:spPr>
          <a:xfrm>
            <a:off x="-30240" y="115920"/>
            <a:ext cx="8966160" cy="233532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0" y="24998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Group Member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595959"/>
                </a:solidFill>
                <a:latin typeface="微軟正黑體"/>
              </a:rPr>
              <a:t>林孟洵 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</a:rPr>
              <a:t>(E3B) </a:t>
            </a:r>
            <a:r>
              <a:rPr b="1" lang="en-US" sz="31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64102297</a:t>
            </a:r>
            <a:r>
              <a:rPr b="1" lang="zh-TW" sz="3200" spc="-1" strike="noStrike">
                <a:solidFill>
                  <a:srgbClr val="595959"/>
                </a:solidFill>
                <a:latin typeface="Lucida Sans Unicode"/>
              </a:rPr>
              <a:t>  </a:t>
            </a:r>
            <a:r>
              <a:rPr b="1" lang="zh-TW" sz="2600" spc="-1" strike="noStrike">
                <a:solidFill>
                  <a:srgbClr val="595959"/>
                </a:solidFill>
                <a:latin typeface="微軟正黑體"/>
              </a:rPr>
              <a:t>王瀅瀅</a:t>
            </a:r>
            <a:r>
              <a:rPr b="1" lang="zh-TW" sz="2300" spc="-1" strike="noStrike">
                <a:solidFill>
                  <a:srgbClr val="595959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595959"/>
                </a:solidFill>
                <a:latin typeface="微軟正黑體"/>
              </a:rPr>
              <a:t>(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</a:rPr>
              <a:t>E4C )</a:t>
            </a:r>
            <a:r>
              <a:rPr b="1" lang="en-US" sz="32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541072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767c"/>
                </a:solidFill>
                <a:latin typeface="Arial Unicode MS"/>
                <a:ea typeface="Arial Unicode MS"/>
              </a:rPr>
              <a:t>Joanna                            Linl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595959"/>
                </a:solidFill>
                <a:latin typeface="Lucida Sans Unicode"/>
              </a:rPr>
              <a:t>林政言</a:t>
            </a:r>
            <a:r>
              <a:rPr b="1" lang="en-US" sz="31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  <a:ea typeface="Aharoni"/>
              </a:rPr>
              <a:t>(E4A)</a:t>
            </a:r>
            <a:r>
              <a:rPr b="1" lang="en-US" sz="26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5415189</a:t>
            </a:r>
            <a:r>
              <a:rPr b="1" lang="en-US" sz="3200" spc="-1" strike="noStrike">
                <a:solidFill>
                  <a:srgbClr val="595959"/>
                </a:solidFill>
                <a:latin typeface="Aharoni"/>
                <a:ea typeface="Aharoni"/>
              </a:rPr>
              <a:t>  </a:t>
            </a:r>
            <a:r>
              <a:rPr b="1" lang="zh-TW" sz="2600" spc="-1" strike="noStrike">
                <a:solidFill>
                  <a:srgbClr val="595959"/>
                </a:solidFill>
                <a:latin typeface="Lucida Sans Unicode"/>
              </a:rPr>
              <a:t>陳含佳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  <a:ea typeface="Aharoni"/>
              </a:rPr>
              <a:t>(E3B)</a:t>
            </a:r>
            <a:r>
              <a:rPr b="1" lang="zh-TW" sz="26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5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6410629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c767c"/>
                </a:solidFill>
                <a:latin typeface="Arial Unicode MS"/>
                <a:ea typeface="Arial Unicode MS"/>
              </a:rPr>
              <a:t>Roy                             Anne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4e74"/>
                </a:solidFill>
                <a:latin typeface="Maiandra GD"/>
              </a:rPr>
              <a:t>Place of Articulation</a:t>
            </a:r>
            <a:br>
              <a:rPr sz="4000"/>
            </a:b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641" name="Picture 9" descr="img001"/>
          <p:cNvPicPr/>
          <p:nvPr/>
        </p:nvPicPr>
        <p:blipFill>
          <a:blip r:embed="rId1"/>
          <a:stretch/>
        </p:blipFill>
        <p:spPr>
          <a:xfrm>
            <a:off x="-285840" y="1357200"/>
            <a:ext cx="5929560" cy="49294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8"/>
          <p:cNvSpPr/>
          <p:nvPr/>
        </p:nvSpPr>
        <p:spPr>
          <a:xfrm>
            <a:off x="5286240" y="1643040"/>
            <a:ext cx="3311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mbria"/>
                <a:ea typeface="新細明體"/>
              </a:rPr>
              <a:t>1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. bilabial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2. labio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3. 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4. alveo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5. pala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6. ve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7.uv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8. glot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680" y="2714760"/>
            <a:ext cx="4357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  <a:ea typeface="新細明體"/>
              </a:rPr>
              <a:t>Conclusion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Depending on students’ language background, </a:t>
            </a:r>
            <a:r>
              <a:rPr b="1" lang="en-US" sz="2700" spc="-1" strike="noStrike" u="sng">
                <a:solidFill>
                  <a:srgbClr val="eb641b"/>
                </a:solidFill>
                <a:uFillTx/>
                <a:latin typeface="Lucida Sans Unicode"/>
              </a:rPr>
              <a:t>certain consonants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will be harder for them to distinguish than ot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Which contrasts are most difficult for students, more focused </a:t>
            </a:r>
            <a:r>
              <a:rPr b="1" lang="en-US" sz="2700" spc="-1" strike="noStrike" u="sng">
                <a:solidFill>
                  <a:srgbClr val="eb641b"/>
                </a:solidFill>
                <a:uFillTx/>
                <a:latin typeface="Lucida Sans Unicode"/>
              </a:rPr>
              <a:t>exercises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 can be desig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5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3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5712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ESL/EFL learners problematic consonant sounds can be described using a combination of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drawings, visual props, and word and sentence dri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Be aware of which individual sounds and which sound contrasts may cause students difficulty.  E.g.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homogeneous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and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heterogeneou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language backgrou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7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3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Lucida Sans Unicode"/>
              </a:rPr>
              <a:t>Celce-Murcia, D. Teaching Pronunciation, p48~5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Lucida Sans Unicode"/>
              </a:rPr>
              <a:t>Victoria Fromkin ,Robert Rodman, An Introduction to Language, p22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9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p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Teaching consonants is how detailed an analysis to present to the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Classifying consonants according to their features can greatly assist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6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500040" y="135720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To present consonants in this manner, special attention should be paid to the symbols that differ from regular spelling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/ʃ/, /ʒ/, /t ʃ/,/dʒ/, /</a:t>
            </a:r>
            <a:r>
              <a:rPr b="1" lang="el-GR" sz="2700" spc="-1" strike="noStrike">
                <a:solidFill>
                  <a:srgbClr val="595959"/>
                </a:solidFill>
                <a:latin typeface="Lucida Sans Unicode"/>
              </a:rPr>
              <a:t>θ</a:t>
            </a: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/,/ð/,/ ŋ / ,and to sound contrasts that do not exist in the students’ first langu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All-skills classes in which there is time to focus on fluency rather than accura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571680" y="928800"/>
          <a:ext cx="8143560" cy="4957560"/>
        </p:xfrm>
        <a:graphic>
          <a:graphicData uri="http://schemas.openxmlformats.org/drawingml/2006/table">
            <a:tbl>
              <a:tblPr/>
              <a:tblGrid>
                <a:gridCol w="1122120"/>
                <a:gridCol w="963720"/>
                <a:gridCol w="1122480"/>
                <a:gridCol w="863280"/>
                <a:gridCol w="1017720"/>
                <a:gridCol w="1004760"/>
                <a:gridCol w="1032120"/>
                <a:gridCol w="1017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anner of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ABLE3.3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TUDENT WORKSHEET: CLASSIFICATION OF NAE CONSONANT PHO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lab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bio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ve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la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e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lot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文字方塊 5"/>
          <p:cNvSpPr/>
          <p:nvPr/>
        </p:nvSpPr>
        <p:spPr>
          <a:xfrm>
            <a:off x="571680" y="2142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4e74"/>
                </a:solidFill>
                <a:latin typeface="新細明體"/>
                <a:ea typeface="新細明體"/>
              </a:rPr>
              <a:t>p.4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Lucida Sans Unicode"/>
              </a:rPr>
              <a:t>The type of obstacle course the air takes, referred to as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Lucida Sans Unicode"/>
              </a:rPr>
              <a:t>manner of articulation</a:t>
            </a:r>
            <a:r>
              <a:rPr b="1" lang="en-US" sz="3600" spc="-1" strike="noStrike">
                <a:solidFill>
                  <a:srgbClr val="404040"/>
                </a:solidFill>
                <a:latin typeface="Lucida Sans Unicode"/>
              </a:rPr>
              <a:t>, is another distinguish feature of how consonants are produced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2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Stop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e airstream is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stopped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or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blacked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completely prior to releas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Air is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forced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rough a narrow passageway in the mouth of throat creat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Af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e sound begins as a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stop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and is then released as a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 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4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1428840" y="2143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p/</a:t>
            </a:r>
            <a:r>
              <a:rPr b="0" lang="en-US" sz="1800" spc="-1" strike="noStrike">
                <a:solidFill>
                  <a:srgbClr val="eb641b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b/</a:t>
            </a:r>
            <a:r>
              <a:rPr b="0" lang="en-US" sz="1800" spc="-1" strike="noStrike">
                <a:solidFill>
                  <a:srgbClr val="eb641b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288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f/ , /v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357200" y="49291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tʃ/ , /d ʒ 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95280" y="9806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Nasal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Continuous air is released through the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nasal cavit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while the speech organs assume a stoplike posi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Liquid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There is some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obstructio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of the airstream in the mouth, but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no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nough to cause any real constriction or fric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Sans Unicode"/>
              </a:rPr>
              <a:t>Glide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They are always followed</a:t>
            </a: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directl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by a vowe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9" name="標題 2" descr=""/>
          <p:cNvPicPr/>
          <p:nvPr/>
        </p:nvPicPr>
        <p:blipFill>
          <a:blip r:embed="rId1"/>
          <a:stretch/>
        </p:blipFill>
        <p:spPr>
          <a:xfrm>
            <a:off x="179280" y="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1332000" y="24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m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n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140328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l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r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140328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w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y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4e74"/>
                </a:solidFill>
                <a:latin typeface="Maiandra GD"/>
              </a:rPr>
              <a:t>Place of Articulation</a:t>
            </a:r>
            <a:br>
              <a:rPr sz="4000"/>
            </a:b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604" name="Picture 9" descr="img001"/>
          <p:cNvPicPr/>
          <p:nvPr/>
        </p:nvPicPr>
        <p:blipFill>
          <a:blip r:embed="rId1"/>
          <a:stretch/>
        </p:blipFill>
        <p:spPr>
          <a:xfrm>
            <a:off x="-285840" y="1357200"/>
            <a:ext cx="5929560" cy="49294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8"/>
          <p:cNvSpPr/>
          <p:nvPr/>
        </p:nvSpPr>
        <p:spPr>
          <a:xfrm>
            <a:off x="5286240" y="1643040"/>
            <a:ext cx="3311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mbria"/>
                <a:ea typeface="新細明體"/>
              </a:rPr>
              <a:t>1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. bilabial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2. labio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3. 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4. alveo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5. (alveo)pala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6. ve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7.uv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8. glot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b36"/>
                </a:solidFill>
                <a:latin typeface="Maiandra GD"/>
              </a:rPr>
              <a:t>p49.</a:t>
            </a:r>
            <a:endParaRPr b="0" lang="en-US" sz="1800" spc="-1" strike="noStrike">
              <a:solidFill>
                <a:srgbClr val="001b36"/>
              </a:solidFill>
              <a:latin typeface="Maiandra GD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571680" y="642960"/>
          <a:ext cx="8072280" cy="5357880"/>
        </p:xfrm>
        <a:graphic>
          <a:graphicData uri="http://schemas.openxmlformats.org/drawingml/2006/table">
            <a:tbl>
              <a:tblPr/>
              <a:tblGrid>
                <a:gridCol w="1508040"/>
                <a:gridCol w="863640"/>
                <a:gridCol w="981000"/>
                <a:gridCol w="804960"/>
                <a:gridCol w="914400"/>
                <a:gridCol w="901440"/>
                <a:gridCol w="927360"/>
                <a:gridCol w="117144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anner of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ABLE3.3    STUDENT WORKSHEET: CLASSIFICATION OF NAE CONSONANT PHO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lab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bio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ve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la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e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lot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Text Box 179"/>
          <p:cNvSpPr/>
          <p:nvPr/>
        </p:nvSpPr>
        <p:spPr>
          <a:xfrm>
            <a:off x="571680" y="1428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Text Box 180"/>
          <p:cNvSpPr/>
          <p:nvPr/>
        </p:nvSpPr>
        <p:spPr>
          <a:xfrm>
            <a:off x="571680" y="221472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Fricativ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Text Box 181"/>
          <p:cNvSpPr/>
          <p:nvPr/>
        </p:nvSpPr>
        <p:spPr>
          <a:xfrm>
            <a:off x="571680" y="30002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Affricat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Text Box 182"/>
          <p:cNvSpPr/>
          <p:nvPr/>
        </p:nvSpPr>
        <p:spPr>
          <a:xfrm>
            <a:off x="571680" y="3714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Nasa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Text Box 183"/>
          <p:cNvSpPr/>
          <p:nvPr/>
        </p:nvSpPr>
        <p:spPr>
          <a:xfrm>
            <a:off x="571680" y="4500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Text Box 184"/>
          <p:cNvSpPr/>
          <p:nvPr/>
        </p:nvSpPr>
        <p:spPr>
          <a:xfrm>
            <a:off x="571680" y="52862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Glid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Text Box 185"/>
          <p:cNvSpPr/>
          <p:nvPr/>
        </p:nvSpPr>
        <p:spPr>
          <a:xfrm>
            <a:off x="2050920" y="141300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p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Text Box 186"/>
          <p:cNvSpPr/>
          <p:nvPr/>
        </p:nvSpPr>
        <p:spPr>
          <a:xfrm>
            <a:off x="2050920" y="1773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b</a:t>
            </a:r>
            <a:r>
              <a:rPr b="1" lang="en-US" sz="1200" spc="-1" strike="noStrike">
                <a:solidFill>
                  <a:srgbClr val="0000ff"/>
                </a:solidFill>
                <a:latin typeface="Cambria"/>
                <a:ea typeface="新細明體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Text Box 187"/>
          <p:cNvSpPr/>
          <p:nvPr/>
        </p:nvSpPr>
        <p:spPr>
          <a:xfrm>
            <a:off x="2050920" y="3860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m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Text Box 189"/>
          <p:cNvSpPr/>
          <p:nvPr/>
        </p:nvSpPr>
        <p:spPr>
          <a:xfrm>
            <a:off x="2000160" y="53578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mbria"/>
                <a:ea typeface="新細明體"/>
              </a:rPr>
              <a:t>(/hw/) </a:t>
            </a:r>
            <a:r>
              <a:rPr b="1" lang="zh-TW" sz="1600" spc="-1" strike="noStrike" baseline="30000">
                <a:solidFill>
                  <a:srgbClr val="000000"/>
                </a:solidFill>
                <a:latin typeface="Cambria"/>
                <a:ea typeface="新細明體"/>
              </a:rPr>
              <a:t>＊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Text Box 188"/>
          <p:cNvSpPr/>
          <p:nvPr/>
        </p:nvSpPr>
        <p:spPr>
          <a:xfrm>
            <a:off x="2071800" y="564372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w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Text Box 190"/>
          <p:cNvSpPr/>
          <p:nvPr/>
        </p:nvSpPr>
        <p:spPr>
          <a:xfrm>
            <a:off x="3059280" y="2205000"/>
            <a:ext cx="7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f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Text Box 191"/>
          <p:cNvSpPr/>
          <p:nvPr/>
        </p:nvSpPr>
        <p:spPr>
          <a:xfrm>
            <a:off x="2987640" y="256536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v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Text Box 192"/>
          <p:cNvSpPr/>
          <p:nvPr/>
        </p:nvSpPr>
        <p:spPr>
          <a:xfrm>
            <a:off x="4000680" y="2214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θ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Text Box 193"/>
          <p:cNvSpPr/>
          <p:nvPr/>
        </p:nvSpPr>
        <p:spPr>
          <a:xfrm>
            <a:off x="3929040" y="25718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ð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文字方塊 95"/>
          <p:cNvSpPr/>
          <p:nvPr/>
        </p:nvSpPr>
        <p:spPr>
          <a:xfrm>
            <a:off x="4716360" y="14130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t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文字方塊 96"/>
          <p:cNvSpPr/>
          <p:nvPr/>
        </p:nvSpPr>
        <p:spPr>
          <a:xfrm>
            <a:off x="4716360" y="17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d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文字方塊 97"/>
          <p:cNvSpPr/>
          <p:nvPr/>
        </p:nvSpPr>
        <p:spPr>
          <a:xfrm>
            <a:off x="4788000" y="22050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s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文字方塊 98"/>
          <p:cNvSpPr/>
          <p:nvPr/>
        </p:nvSpPr>
        <p:spPr>
          <a:xfrm>
            <a:off x="478800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z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文字方塊 99"/>
          <p:cNvSpPr/>
          <p:nvPr/>
        </p:nvSpPr>
        <p:spPr>
          <a:xfrm>
            <a:off x="4714920" y="38577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n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文字方塊 100"/>
          <p:cNvSpPr/>
          <p:nvPr/>
        </p:nvSpPr>
        <p:spPr>
          <a:xfrm>
            <a:off x="4714920" y="4572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l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文字方塊 101"/>
          <p:cNvSpPr/>
          <p:nvPr/>
        </p:nvSpPr>
        <p:spPr>
          <a:xfrm>
            <a:off x="4714920" y="4929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新細明體"/>
              </a:rPr>
              <a:t>(/r/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文字方塊 102"/>
          <p:cNvSpPr/>
          <p:nvPr/>
        </p:nvSpPr>
        <p:spPr>
          <a:xfrm>
            <a:off x="5786280" y="221472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ʃ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文字方塊 103"/>
          <p:cNvSpPr/>
          <p:nvPr/>
        </p:nvSpPr>
        <p:spPr>
          <a:xfrm>
            <a:off x="5786280" y="2571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ʒ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文字方塊 104"/>
          <p:cNvSpPr/>
          <p:nvPr/>
        </p:nvSpPr>
        <p:spPr>
          <a:xfrm>
            <a:off x="5715000" y="3000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tʃ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文字方塊 105"/>
          <p:cNvSpPr/>
          <p:nvPr/>
        </p:nvSpPr>
        <p:spPr>
          <a:xfrm>
            <a:off x="5643720" y="3357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dʒ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文字方塊 106"/>
          <p:cNvSpPr/>
          <p:nvPr/>
        </p:nvSpPr>
        <p:spPr>
          <a:xfrm>
            <a:off x="5786280" y="47149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r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文字方塊 107"/>
          <p:cNvSpPr/>
          <p:nvPr/>
        </p:nvSpPr>
        <p:spPr>
          <a:xfrm>
            <a:off x="5786280" y="54291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y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文字方塊 108"/>
          <p:cNvSpPr/>
          <p:nvPr/>
        </p:nvSpPr>
        <p:spPr>
          <a:xfrm>
            <a:off x="6572160" y="1500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k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文字方塊 109"/>
          <p:cNvSpPr/>
          <p:nvPr/>
        </p:nvSpPr>
        <p:spPr>
          <a:xfrm>
            <a:off x="6588000" y="17733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g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文字方塊 110"/>
          <p:cNvSpPr/>
          <p:nvPr/>
        </p:nvSpPr>
        <p:spPr>
          <a:xfrm>
            <a:off x="6643800" y="39290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 ŋ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文字方塊 112"/>
          <p:cNvSpPr/>
          <p:nvPr/>
        </p:nvSpPr>
        <p:spPr>
          <a:xfrm>
            <a:off x="7715160" y="242892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h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44:44Z</dcterms:created>
  <dc:creator>user</dc:creator>
  <dc:description/>
  <dc:language>en-US</dc:language>
  <cp:lastModifiedBy>Customer</cp:lastModifiedBy>
  <dcterms:modified xsi:type="dcterms:W3CDTF">2010-04-11T10:24:33Z</dcterms:modified>
  <cp:revision>43</cp:revision>
  <dc:subject/>
  <dc:title>Teaching Pronunciation  The Sound of North America English</dc:title>
</cp:coreProperties>
</file>