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4C1-7248-43D1-A840-D75051AC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E6E-0D2C-4720-B3F2-02FDBC63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8DDB-C3F8-4602-8815-A50A41D2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92A99-A203-4BA9-B25E-864BCD6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B0566-4D05-4364-BF21-B845FA5E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FD333-E22E-497B-AC62-F12919E5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CBF74-30E8-4C67-A603-9A73B7D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CD77-2288-4789-8112-E352ABC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41985-82F0-478A-BAB3-3CAD2861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128A6-42CA-4E76-8D2C-B6E80F15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437E4-9FA7-44A0-8069-C6FEA161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08D33-1317-4371-B22A-F47AA196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CC1-154E-47D4-B888-3F6A575A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0B5AD-4415-4705-B7CB-5E6178B6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732EF-6292-4910-92F2-F7E7F4E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B5B90-6A2B-4199-A452-C065EAE9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674C3-A346-48E5-88C4-882E7478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24AC8-A892-4A35-A4CF-7243BEEB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CB8E2-1F1B-4B67-BF7C-2F159BF8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18BC0-ADB1-4152-99F9-67E8B35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3A832-E8AA-491A-9D5E-7707B3E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AB136-E1C8-4B56-991A-2A775032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86822-4676-4444-9D19-13EEA608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F94-5694-4B41-8418-A15DCDA0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B6B01-49C9-4B24-9621-59AC2300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8735B-CE52-4AFB-92C0-104855AF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D6309-2A38-479C-9F93-10E781B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3CA3D-4A35-4A47-A726-00CF2AE9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24BBC-0EA1-45F3-94CE-E7BA946F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ECBA7-49B8-4C77-A75A-A7A89EC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5121C-A70F-4327-9EFC-80E1F2D3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C81BA-9F97-48CE-964A-130872D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F1745-18EE-4DAD-973E-8E8A151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5418A-D04D-44C4-A17F-2AEFA1D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8D5E-4AE3-4C59-912D-D716C577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ABC75-B093-46F8-9FE4-CAFC373B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92446-3BD7-43B6-B210-9BF6C60B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8CFC4-D427-45E8-A274-FDAE8B79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DEA9B-8672-4B0C-B747-5FF02D67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1FEA1-EDBB-4256-AC1C-E6AF120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A7B68-CDCE-4C0E-B007-BD0C9545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73B0C-B1E1-4381-9A98-E132DDF6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D976A-174F-486E-8A5D-80DEB6FA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E8E8D-9D12-4BCE-9AB4-B31626B8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A8D6C-5980-4FF2-91C6-916A01F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61F8-A59F-4099-B2C3-54C6515D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D822C-1B58-4B7B-8648-3FE7A5D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134B0-E556-405F-B5F6-3666DE6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CCBBA-718C-4F70-8A03-0DC018FC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C428D-3CEA-4A0C-9F69-7A9271A0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61A9C-BEC9-4E55-BD45-0324BBFE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1FA3F-CB7C-4525-BD4A-A262845D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0C6F1-00C1-4F83-8C05-FD34F762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8B963-01CA-4696-A833-D2239402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75846-BAE3-40CF-A1B6-F5FBD4B6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DD764-D0FA-40CF-AC22-CCA780C1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9B34-AEDC-4984-813A-C302E21E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18675-3E2A-4F47-81DE-D4ADFEFE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E6C7E-186E-4E5E-9ED1-62C755D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18F72-F8BE-494B-A804-CD337DD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30A68-9AF3-4967-B097-6E1EC0D6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6BC8C-8AB0-44EC-92EF-A70D26E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09B12-3968-46E0-B44F-32189B9D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70470-F307-45FB-AA27-058C114C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DFFE-DC85-4C68-B58D-28864C35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86C5-7225-4E0A-82F1-4DB0BD4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051B-6D37-4481-B148-C834CAA2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34B-8EB8-46D9-BD53-A8F3DC3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BCF-3280-4D2D-9D14-F78003D8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984B-75F4-41FF-8A54-99728793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3376-022C-4EDB-AFBC-62C03D01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8ADA-EC1E-4039-856D-B038894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BFFD-F8C9-4BC8-BC61-FCBB39C4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E57D-AA56-45EA-81DA-34BD5486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F23A-7430-4698-B80C-ADA4EB1A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43E6-38E6-4295-98ED-1A0E096E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6608-D8D9-4056-9C86-B3FD5E36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2A0C-EAC9-480C-BE08-3D091B1B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8B9D-F36E-421E-872C-99A229D6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C4D-5331-4022-8B89-F2898633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D763-58D4-4FC5-BECE-44AA8768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7B79-58E4-43FB-A4D2-0BFAE7B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90A5-AA7C-4C08-9BBD-A113A914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E56C-2842-48B1-B348-6BB6E55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2738-BE06-4484-AAF6-F03ADCF2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5FF6-E835-4E9B-B201-02024C06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536D-AFAB-4116-9447-37F27E1F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611C-18B4-456E-8E2D-0CDD9423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0C15-5B89-4A72-BCBD-0D6EE02A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E8E9-6E6C-4152-B228-F3803EEB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649-A9DE-4AAB-A683-1A642927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4ED3-1965-4BB6-BBF6-86ABA00C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101E-3178-406A-9957-A2C041E3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691B-730E-4E9D-B8FE-83ED12F3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005C-86E6-4219-B5BB-7A512AE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7032F-6585-45F3-9AA1-5D5DA77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5B1D-59F7-4C06-8465-B11E57E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D977-BC39-4ADF-9859-7F9BBA12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2B8A-1B31-4224-A798-EC2DD3E9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6097-E14C-4D4F-9757-0B74579C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EB15-52DF-4BBF-BE94-D9665CFD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211-B881-421C-8573-B365F73D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0C6D-D54C-47CD-82F5-98D20781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A89B-A21C-473D-9647-C6CACB89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EF8F5-9676-423A-9965-0327BB25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D07E1-43F3-4378-97F8-D8473337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9BF5B-46B6-4819-AD2F-6565BDE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97F2-90FD-49B4-B4FF-8898CD23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74C96-1375-41CC-8A6F-49722E67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430D-6B25-492F-859A-1A5569E4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A6FD-021D-4E27-8CA2-469C5525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265C-3FE3-4097-9EF4-047E4986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786-436A-4641-9ECF-BE8F8A04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6292-16D9-4E17-8C5D-687A046B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075C-D220-4F41-B648-A3EEBE03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B8AF9-63FF-4A6F-B1C1-D3743C3C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974F-C4B2-4F8D-8087-F48F26C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5B4DD-5A02-449E-A12B-D7DF7DB1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4B596-15A1-44F5-A930-32C5437C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A194-CD03-423F-AF79-8B9962B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5062-DE67-432A-9F8D-79E8EBC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37B6C-D6D9-4B17-9888-39F3AE0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C0AC-A609-4346-BD2E-94660901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113-45EB-4CCE-9D9F-CC6B3719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A88FF-8BB0-4A88-9B14-60F6061A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A9C6B-421A-42E3-AA0A-B313349B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A573-5A2A-4474-8AD3-E18FDFC5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856B-1C85-459E-90D2-EA69B769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38319-1559-4145-BF53-17ACC0BF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D4D2-E1E3-46B1-86B5-CB29391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27739-54BA-425F-84B8-C9C1AD44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F924A-B2B2-465F-99D7-E6EFD22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EF069-122B-4A10-B343-810B4F68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09EB9-7311-4EDB-B56A-A171610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35F-876A-4415-9E0A-08645D59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6E37-F45C-4107-BE6C-3C5D654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9AB2-4194-4D12-B4C9-53AC6AD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9C68-538E-40A5-9918-BCF961D5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4669A-6239-45BF-ACDB-F16B1456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CBCE-809C-41F5-AA9B-FDA5ABC3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C5F0B-7880-43E7-989A-A5BF7276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3C6A5-EEC3-4EEB-A11B-8D8BD51A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A549-631C-4014-A100-EEC9E00F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7B5E-77A0-41F6-AF89-503FDE1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E3111-1891-4E3E-A5F2-41B17162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713-4482-4C68-ABFE-F05982D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F7C41-443A-4E8D-943F-24BDE447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EBB61-5BDF-4604-979B-009665B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7B58F-51CB-4E65-BC24-3E32F68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E203D-F2B6-4BC0-A16E-1DF2A67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5633-23B4-4B3B-85A5-93F0B4BC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B3448-4502-4169-B49A-F088A19A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E62AF-3570-4475-84E7-DEEFE688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52561-3DC5-4A61-A5C3-FCCA0991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B11DE-5BF8-4528-B5B5-A4D0A63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EA6B1-2E63-401B-BC58-0F7A4E6D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2462-4DAE-4974-97BF-68026932755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手繪多邊形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手繪多邊形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16" name="直線接點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7" name="＞形箭號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＞形箭號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99E-A0DD-43B6-8825-10323AF6D7C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C955-CBE9-4DF9-995D-E0FB4AEFFFED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F3BF-DB1E-4069-AAA0-046C4DA0E535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9EBF-AF62-4032-9D50-7D5346E0A122}" type="slidenum"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48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49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1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2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4" name="圖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934A-5692-4C25-9486-385B5113DDFC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0EC4-BF3B-4863-984C-9BF27E13375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9" name="手繪多邊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手繪多邊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141" name="手繪多邊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42" name="手繪多邊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144" name="直線接點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4F79-0D09-46B5-8C18-543E303AF2C7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1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＞形箭號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7988-140A-4516-9015-ED4638CBDDA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40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85AB-2A0A-4AD1-BE48-D1F9B915305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A3D0-790A-4CDD-B0D1-5E758BBC19A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8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C33-B451-467C-B13C-C8EF498CC87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0437-51E7-4525-AF68-11FBAA49953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標題 1" descr=""/>
          <p:cNvPicPr/>
          <p:nvPr/>
        </p:nvPicPr>
        <p:blipFill>
          <a:blip r:embed="rId1"/>
          <a:stretch/>
        </p:blipFill>
        <p:spPr>
          <a:xfrm>
            <a:off x="-30240" y="115920"/>
            <a:ext cx="8966160" cy="23353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0" y="24998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Group Member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林孟洵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(E3B) </a:t>
            </a:r>
            <a:r>
              <a:rPr b="1" lang="en-US" sz="31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2297</a:t>
            </a:r>
            <a:r>
              <a:rPr b="1" lang="zh-TW" sz="3200" spc="-1" strike="noStrike">
                <a:solidFill>
                  <a:srgbClr val="595959"/>
                </a:solidFill>
                <a:latin typeface="Lucida Sans Unicode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王瀅瀅</a:t>
            </a:r>
            <a:r>
              <a:rPr b="1" lang="zh-TW" sz="2300" spc="-1" strike="noStrike">
                <a:solidFill>
                  <a:srgbClr val="595959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595959"/>
                </a:solidFill>
                <a:latin typeface="微軟正黑體"/>
              </a:rPr>
              <a:t>(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E4C )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072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Joanna                            Linl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林政言</a:t>
            </a:r>
            <a:r>
              <a:rPr b="1" lang="en-US" sz="31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4A)</a:t>
            </a:r>
            <a:r>
              <a:rPr b="1" lang="en-US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5189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陳含佳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3B)</a:t>
            </a:r>
            <a:r>
              <a:rPr b="1" lang="zh-TW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5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629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Roy                             Ann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41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680" y="2714760"/>
            <a:ext cx="4357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  <a:ea typeface="新細明體"/>
              </a:rPr>
              <a:t>Conclusion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Depending on students’ language background,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certain consonant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ill be harder for them to distinguish than ot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hich contrasts are most difficult for students, more focused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exercises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 can be desig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5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571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ESL/EFL learners problematic consonant sounds can be described using a combination of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drawings, visual props, and word and sentence dri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Be aware of which individual sounds and which sound contrasts may cause students difficulty.  E.g.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omogeneou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and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eterogeneou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language backgr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7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Celce-Murcia, D. Teaching Pronunciation, p48~5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Victoria Fromkin ,Robert Rodman, An Introduction to Language, p22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9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eaching consonants is how detailed an analysis to present to the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Classifying consonants according to their features can greatly assist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500040" y="135720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o present consonants in this manner, special attention should be paid to the symbols that differ from regular spelling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ʃ/, /ʒ/, /t ʃ/,/dʒ/, /</a:t>
            </a:r>
            <a:r>
              <a:rPr b="1" lang="el-GR" sz="2700" spc="-1" strike="noStrike">
                <a:solidFill>
                  <a:srgbClr val="595959"/>
                </a:solidFill>
                <a:latin typeface="Lucida Sans Unicode"/>
              </a:rPr>
              <a:t>θ</a:t>
            </a: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,/ð/,/ ŋ / ,and to sound contrasts that do not exist in the students’ first langu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All-skills classes in which there is time to focus on fluency rather than accura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571680" y="928800"/>
          <a:ext cx="8143560" cy="4957560"/>
        </p:xfrm>
        <a:graphic>
          <a:graphicData uri="http://schemas.openxmlformats.org/drawingml/2006/table">
            <a:tbl>
              <a:tblPr/>
              <a:tblGrid>
                <a:gridCol w="1122120"/>
                <a:gridCol w="963720"/>
                <a:gridCol w="1122480"/>
                <a:gridCol w="863280"/>
                <a:gridCol w="1017720"/>
                <a:gridCol w="1004760"/>
                <a:gridCol w="1032120"/>
                <a:gridCol w="1017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TUDENT WORKSHEET: CLASSIFICATION OF NAE CONSONANT PHO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文字方塊 5"/>
          <p:cNvSpPr/>
          <p:nvPr/>
        </p:nvSpPr>
        <p:spPr>
          <a:xfrm>
            <a:off x="571680" y="2142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4e74"/>
                </a:solidFill>
                <a:latin typeface="新細明體"/>
                <a:ea typeface="新細明體"/>
              </a:rPr>
              <a:t>p.4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The type of obstacle course the air takes, referred to a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Lucida Sans Unicode"/>
              </a:rPr>
              <a:t>manner of articulation</a:t>
            </a: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, is another distinguish feature of how consonants are produced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2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airstream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ped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or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black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completely prior to releas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ir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forc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rough a narrow passageway in the mouth of throat creat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Af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sound begins as a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nd is then released as a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 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1428840" y="2143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p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b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288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f/ , 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357200" y="49291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tʃ/ , /d ʒ 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95280" y="9806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Nasal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Continuous air is released through th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while the speech organs assume a stoplike posi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Liquid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re is som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obstructio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of the airstream in the mouth, but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o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ough to cause any real constriction or fric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Sans Unicode"/>
              </a:rPr>
              <a:t>Glide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y are always followed</a:t>
            </a: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directl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by a vow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標題 2" descr=""/>
          <p:cNvPicPr/>
          <p:nvPr/>
        </p:nvPicPr>
        <p:blipFill>
          <a:blip r:embed="rId1"/>
          <a:stretch/>
        </p:blipFill>
        <p:spPr>
          <a:xfrm>
            <a:off x="179280" y="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133200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m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n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140328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l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r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40328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w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y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04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(alveo)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b36"/>
                </a:solidFill>
                <a:latin typeface="Maiandra GD"/>
              </a:rPr>
              <a:t>p49.</a:t>
            </a:r>
            <a:endParaRPr b="0" lang="en-US" sz="1800" spc="-1" strike="noStrike">
              <a:solidFill>
                <a:srgbClr val="001b36"/>
              </a:solidFill>
              <a:latin typeface="Maiandra GD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71680" y="642960"/>
          <a:ext cx="8072280" cy="5357880"/>
        </p:xfrm>
        <a:graphic>
          <a:graphicData uri="http://schemas.openxmlformats.org/drawingml/2006/table">
            <a:tbl>
              <a:tblPr/>
              <a:tblGrid>
                <a:gridCol w="1508040"/>
                <a:gridCol w="863640"/>
                <a:gridCol w="981000"/>
                <a:gridCol w="804960"/>
                <a:gridCol w="914400"/>
                <a:gridCol w="901440"/>
                <a:gridCol w="927360"/>
                <a:gridCol w="117144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STUDENT WORKSHEET: CLASSIFICATION OF NAE CONSONANT PHO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Text Box 179"/>
          <p:cNvSpPr/>
          <p:nvPr/>
        </p:nvSpPr>
        <p:spPr>
          <a:xfrm>
            <a:off x="571680" y="142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Text Box 180"/>
          <p:cNvSpPr/>
          <p:nvPr/>
        </p:nvSpPr>
        <p:spPr>
          <a:xfrm>
            <a:off x="571680" y="221472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Fricativ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Text Box 181"/>
          <p:cNvSpPr/>
          <p:nvPr/>
        </p:nvSpPr>
        <p:spPr>
          <a:xfrm>
            <a:off x="571680" y="30002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Affrica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Text Box 182"/>
          <p:cNvSpPr/>
          <p:nvPr/>
        </p:nvSpPr>
        <p:spPr>
          <a:xfrm>
            <a:off x="571680" y="3714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Nas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Text Box 183"/>
          <p:cNvSpPr/>
          <p:nvPr/>
        </p:nvSpPr>
        <p:spPr>
          <a:xfrm>
            <a:off x="571680" y="4500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Text Box 184"/>
          <p:cNvSpPr/>
          <p:nvPr/>
        </p:nvSpPr>
        <p:spPr>
          <a:xfrm>
            <a:off x="571680" y="52862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Glid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Text Box 185"/>
          <p:cNvSpPr/>
          <p:nvPr/>
        </p:nvSpPr>
        <p:spPr>
          <a:xfrm>
            <a:off x="2050920" y="141300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p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Text Box 186"/>
          <p:cNvSpPr/>
          <p:nvPr/>
        </p:nvSpPr>
        <p:spPr>
          <a:xfrm>
            <a:off x="2050920" y="1773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b</a:t>
            </a:r>
            <a:r>
              <a:rPr b="1" lang="en-US" sz="1200" spc="-1" strike="noStrike">
                <a:solidFill>
                  <a:srgbClr val="0000ff"/>
                </a:solidFill>
                <a:latin typeface="Cambria"/>
                <a:ea typeface="新細明體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Text Box 187"/>
          <p:cNvSpPr/>
          <p:nvPr/>
        </p:nvSpPr>
        <p:spPr>
          <a:xfrm>
            <a:off x="2050920" y="386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m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Text Box 189"/>
          <p:cNvSpPr/>
          <p:nvPr/>
        </p:nvSpPr>
        <p:spPr>
          <a:xfrm>
            <a:off x="2000160" y="53578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mbria"/>
                <a:ea typeface="新細明體"/>
              </a:rPr>
              <a:t>(/hw/) </a:t>
            </a:r>
            <a:r>
              <a:rPr b="1" lang="zh-TW" sz="1600" spc="-1" strike="noStrike" baseline="30000">
                <a:solidFill>
                  <a:srgbClr val="000000"/>
                </a:solidFill>
                <a:latin typeface="Cambria"/>
                <a:ea typeface="新細明體"/>
              </a:rPr>
              <a:t>＊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Text Box 188"/>
          <p:cNvSpPr/>
          <p:nvPr/>
        </p:nvSpPr>
        <p:spPr>
          <a:xfrm>
            <a:off x="2071800" y="564372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w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Text Box 190"/>
          <p:cNvSpPr/>
          <p:nvPr/>
        </p:nvSpPr>
        <p:spPr>
          <a:xfrm>
            <a:off x="3059280" y="2205000"/>
            <a:ext cx="7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f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Text Box 191"/>
          <p:cNvSpPr/>
          <p:nvPr/>
        </p:nvSpPr>
        <p:spPr>
          <a:xfrm>
            <a:off x="2987640" y="256536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Text Box 192"/>
          <p:cNvSpPr/>
          <p:nvPr/>
        </p:nvSpPr>
        <p:spPr>
          <a:xfrm>
            <a:off x="4000680" y="2214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θ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Text Box 193"/>
          <p:cNvSpPr/>
          <p:nvPr/>
        </p:nvSpPr>
        <p:spPr>
          <a:xfrm>
            <a:off x="3929040" y="25718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ð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文字方塊 95"/>
          <p:cNvSpPr/>
          <p:nvPr/>
        </p:nvSpPr>
        <p:spPr>
          <a:xfrm>
            <a:off x="4716360" y="14130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文字方塊 96"/>
          <p:cNvSpPr/>
          <p:nvPr/>
        </p:nvSpPr>
        <p:spPr>
          <a:xfrm>
            <a:off x="4716360" y="17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文字方塊 97"/>
          <p:cNvSpPr/>
          <p:nvPr/>
        </p:nvSpPr>
        <p:spPr>
          <a:xfrm>
            <a:off x="4788000" y="22050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s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文字方塊 98"/>
          <p:cNvSpPr/>
          <p:nvPr/>
        </p:nvSpPr>
        <p:spPr>
          <a:xfrm>
            <a:off x="478800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z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文字方塊 99"/>
          <p:cNvSpPr/>
          <p:nvPr/>
        </p:nvSpPr>
        <p:spPr>
          <a:xfrm>
            <a:off x="4714920" y="38577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n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文字方塊 100"/>
          <p:cNvSpPr/>
          <p:nvPr/>
        </p:nvSpPr>
        <p:spPr>
          <a:xfrm>
            <a:off x="471492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l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文字方塊 101"/>
          <p:cNvSpPr/>
          <p:nvPr/>
        </p:nvSpPr>
        <p:spPr>
          <a:xfrm>
            <a:off x="4714920" y="4929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新細明體"/>
              </a:rPr>
              <a:t>(/r/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文字方塊 102"/>
          <p:cNvSpPr/>
          <p:nvPr/>
        </p:nvSpPr>
        <p:spPr>
          <a:xfrm>
            <a:off x="5786280" y="221472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文字方塊 103"/>
          <p:cNvSpPr/>
          <p:nvPr/>
        </p:nvSpPr>
        <p:spPr>
          <a:xfrm>
            <a:off x="5786280" y="2571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文字方塊 104"/>
          <p:cNvSpPr/>
          <p:nvPr/>
        </p:nvSpPr>
        <p:spPr>
          <a:xfrm>
            <a:off x="5715000" y="3000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文字方塊 105"/>
          <p:cNvSpPr/>
          <p:nvPr/>
        </p:nvSpPr>
        <p:spPr>
          <a:xfrm>
            <a:off x="5643720" y="3357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文字方塊 106"/>
          <p:cNvSpPr/>
          <p:nvPr/>
        </p:nvSpPr>
        <p:spPr>
          <a:xfrm>
            <a:off x="5786280" y="47149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r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文字方塊 107"/>
          <p:cNvSpPr/>
          <p:nvPr/>
        </p:nvSpPr>
        <p:spPr>
          <a:xfrm>
            <a:off x="5786280" y="54291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y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文字方塊 108"/>
          <p:cNvSpPr/>
          <p:nvPr/>
        </p:nvSpPr>
        <p:spPr>
          <a:xfrm>
            <a:off x="6572160" y="1500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k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文字方塊 109"/>
          <p:cNvSpPr/>
          <p:nvPr/>
        </p:nvSpPr>
        <p:spPr>
          <a:xfrm>
            <a:off x="6588000" y="17733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文字方塊 110"/>
          <p:cNvSpPr/>
          <p:nvPr/>
        </p:nvSpPr>
        <p:spPr>
          <a:xfrm>
            <a:off x="6643800" y="3929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 ŋ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文字方塊 112"/>
          <p:cNvSpPr/>
          <p:nvPr/>
        </p:nvSpPr>
        <p:spPr>
          <a:xfrm>
            <a:off x="7715160" y="242892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h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4:44Z</dcterms:created>
  <dc:creator>user</dc:creator>
  <dc:description/>
  <dc:language>en-US</dc:language>
  <cp:lastModifiedBy>Customer</cp:lastModifiedBy>
  <dcterms:modified xsi:type="dcterms:W3CDTF">2010-04-11T10:24:33Z</dcterms:modified>
  <cp:revision>43</cp:revision>
  <dc:subject/>
  <dc:title>Teaching Pronunciation  The Sound of North America English</dc:title>
</cp:coreProperties>
</file>