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5FF3-6721-4275-B1F2-2982ED19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5EA8-93E9-474D-85D9-DF84045D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2F2-3CCC-4932-82AA-0243C9A7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069-240B-41B7-A2AC-9278A2BC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7D4-6E80-4372-A0D6-1771171B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715-A4A3-4E13-A85A-BDCF9DCE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8E8-6F4F-4FEF-90E4-1EF56780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DFB6-BE0C-42E4-A08C-2BBBE111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63E-AE43-4E88-824E-0583BAA6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367-EC4F-4D2E-9C33-DED7B9B0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4081-BF42-42DF-8F25-58452617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F8B1-5159-4178-B837-B2E434AF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1FFE-DEC8-45F8-B6A7-AEA1EE49BE9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terview the doc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59000" y="1727280"/>
            <a:ext cx="7218000" cy="145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special guest i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r. Peter Hu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3716280"/>
            <a:ext cx="446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5415163   Natal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5415294   Chi 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4410916   Ag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5415189   R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87280" y="3716280"/>
            <a:ext cx="3311640" cy="24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08720" y="5079960"/>
            <a:ext cx="1835280" cy="1778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3880" cy="2133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95640" y="350640"/>
            <a:ext cx="517032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tor’s stere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2216160"/>
            <a:ext cx="8147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851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ually drive a luxury car, buy expensive clothes, and take exotic vacations  because their salary is almost twice as much as oth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851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: Doctor are cleverer than other peo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851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: They cheat their wives for a young new shiny model, or a nurse whom they work wi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45007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tor Huang’s archive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1197000"/>
          <a:ext cx="8497800" cy="5316480"/>
        </p:xfrm>
        <a:graphic>
          <a:graphicData uri="http://schemas.openxmlformats.org/drawingml/2006/table">
            <a:tbl>
              <a:tblPr/>
              <a:tblGrid>
                <a:gridCol w="3116160"/>
                <a:gridCol w="5381640"/>
              </a:tblGrid>
              <a:tr h="121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eter Hua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Ge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Nation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ilip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16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Working 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ungs‘Taichung MetroHarbor Hospital in Wuch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astric &amp; Intestin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spcBef>
                <a:spcPts val="799"/>
              </a:spcBef>
              <a:buSzPct val="2262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Why do you want to be a docto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 I want to help humanity and sick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spcBef>
                <a:spcPts val="799"/>
              </a:spcBef>
              <a:buSzPct val="2364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What qualities do you need in your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o be a doctor, you need dedication and hard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spcBef>
                <a:spcPts val="799"/>
              </a:spcBef>
              <a:buSzPct val="2364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How many hours do you work every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We usually work for 8 hours in the hospital, and sometimes we have duties of night. So sometimes we spent 24 hours in the hos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68360" y="260280"/>
            <a:ext cx="43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Q &amp; A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4978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2364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Do you have time to enjoy your life such as  buy yourself a good car or take a va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Our time is always very limited, and we have very little time to enjoyment. Occasionally, I bring my family with a vacation abroad once a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2364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What do you like about your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Well, my job pays very well. That’s the mos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2364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7e"/>
                </a:solidFill>
                <a:latin typeface="Arial"/>
              </a:rPr>
              <a:t>Had any patient ever told you that they are confident in your 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7e"/>
                </a:solidFill>
                <a:latin typeface="Arial"/>
              </a:rPr>
              <a:t>  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A: Yes, most of my patients, they are satisfied my ability, so they came ba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2364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7e"/>
                </a:solidFill>
                <a:latin typeface="Arial"/>
              </a:rPr>
              <a:t>If you could choose your profession again, what kind of profession would you choose?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7e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: I still want to be a doctor. Because you  get such satisfaction with your patient is getting well in the state or they get better, and you feel satisfied. That’s why I want to be a do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4f00"/>
                </a:solidFill>
                <a:latin typeface="Arial"/>
              </a:rPr>
              <a:t>Conclusion─ </a:t>
            </a:r>
            <a:r>
              <a:rPr b="1" lang="en-US" sz="2800" spc="-1" strike="noStrike">
                <a:solidFill>
                  <a:srgbClr val="9e4f00"/>
                </a:solidFill>
                <a:latin typeface="Arial"/>
              </a:rPr>
              <a:t>Points we learn from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28036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e breaks our stereotypes for doctor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We can see that he doesn’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wear expensive cloth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e feels satisfied from his patients when they are getting better, so we can know that he is ki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e is a good father, husband, and a good doctor because his patients believe his ability, so they always come bac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He wants to help humanity and sick people, so he is not the person who just want to earn mo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Even though he is busy, he also bring his family to take vacations abroad once a year. It can prove that he loves his family very mu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We know that he really want to be a doctor because he can feel satisfied from his pati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0920" y="1638360"/>
            <a:ext cx="5220000" cy="5219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2:33:00Z</dcterms:created>
  <dc:creator>Acer</dc:creator>
  <dc:description/>
  <dc:language>en-US</dc:language>
  <cp:lastModifiedBy>TIGER-XP</cp:lastModifiedBy>
  <dcterms:modified xsi:type="dcterms:W3CDTF">2009-05-01T14:03:05Z</dcterms:modified>
  <cp:revision>37</cp:revision>
  <dc:subject/>
  <dc:title>vocation</dc:title>
</cp:coreProperties>
</file>