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6B8-8D82-4CE0-8F9B-1FA5BB99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D89-8803-4AC8-9579-DD0EEEAB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941-AA89-4016-8116-ECFDC929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F94-F9F2-4AC0-B021-1A5D508D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0B1-53D8-4ECF-88F7-B40D4FEA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364-0712-4980-8FD7-B6A9480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7EA-8CDD-43AC-B1B7-EB3F22D9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0EA-B12A-4A50-BB58-7DFD904D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555-BA45-4BA3-BB19-FCEBF4E0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534-64B5-4349-A407-A8001B3A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178-EBBC-43F9-9C01-74587436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ACD-984A-4641-8003-D381A10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CF41-99B9-4133-8D13-E440BF5A0C3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erview the do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59000" y="1727280"/>
            <a:ext cx="7218000" cy="145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special guest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r. Peter H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3716280"/>
            <a:ext cx="446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63   Natal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294   Chi 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4410916   Ag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89   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08720" y="5079960"/>
            <a:ext cx="183528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388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640" y="350640"/>
            <a:ext cx="517032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tor’s stere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21616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drive a luxury car, buy expensive clothes, and take exotic vacations  because their salary is almost twice as much as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: Doctor are cleverer than othe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: They cheat their wives for a young new shiny model, or a nurse whom they work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5007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tor Huang’s archiv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197000"/>
          <a:ext cx="8497800" cy="5316480"/>
        </p:xfrm>
        <a:graphic>
          <a:graphicData uri="http://schemas.openxmlformats.org/drawingml/2006/table">
            <a:tbl>
              <a:tblPr/>
              <a:tblGrid>
                <a:gridCol w="3116160"/>
                <a:gridCol w="5381640"/>
              </a:tblGrid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ter Hu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G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lip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16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Working 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ungs‘Taichung MetroHarbor Hospital in Wuc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astric &amp; Intestin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99"/>
              </a:spcBef>
              <a:buSzPct val="2262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y do you want to be a doct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I want to help humanity and si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qualities do you need in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o be a doctor, you need dedication and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How many hours do you work every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 usually work for 8 hours in the hospital, and sometimes we have duties of night. So sometimes we spent 24 hours in the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68360" y="26028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Q &amp; 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Do you have time to enjoy your life such as  buy yourself a good car or take a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Our time is always very limited, and we have very little time to enjoyment. Occasionally, I bring my family with a vacation abroad once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do you like about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ll, my job pays very well. That’s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Had any patient ever told you that they are confident in your 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A: Yes, most of my patients, they are satisfied my ability, so they cam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If you could choose your profession again, what kind of profession would you choose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: I still want to be a doctor. Because you  get such satisfaction with your patient is getting well in the state or they get better, and you feel satisfied. That’s why I want to be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4f00"/>
                </a:solidFill>
                <a:latin typeface="Arial"/>
              </a:rPr>
              <a:t>Conclusion─ </a:t>
            </a:r>
            <a:r>
              <a:rPr b="1" lang="en-US" sz="2800" spc="-1" strike="noStrike">
                <a:solidFill>
                  <a:srgbClr val="9e4f00"/>
                </a:solidFill>
                <a:latin typeface="Arial"/>
              </a:rPr>
              <a:t>Points we learn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breaks our stereotypes for docto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 can see that he doesn’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ar expensive cloth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feels satisfied from his patients when they are getting better, so we can know that he is ki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is a good father, husband, and a good doctor because his patients believe his ability, so they always come ba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He wants to help humanity and sick people, so he is not the person who just want to earn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ven though he is busy, he also bring his family to take vacations abroad once a year. It can prove that he loves his family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e know that he really want to be a doctor because he can feel satisfied from his pati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638360"/>
            <a:ext cx="522000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2:33:00Z</dcterms:created>
  <dc:creator>Acer</dc:creator>
  <dc:description/>
  <dc:language>en-US</dc:language>
  <cp:lastModifiedBy>TIGER-XP</cp:lastModifiedBy>
  <dcterms:modified xsi:type="dcterms:W3CDTF">2009-05-01T14:03:05Z</dcterms:modified>
  <cp:revision>37</cp:revision>
  <dc:subject/>
  <dc:title>vocation</dc:title>
</cp:coreProperties>
</file>