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7A8B-B693-4068-BA4D-B27E66DA8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C681-218C-40A5-A0A3-DDE98F0F0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81F4-EDB9-4A01-8AFC-7321DB4BB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83C2-6102-445D-8CD9-0C1FE79DB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CDEF-AB20-4DFC-B319-9A9702646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5B05-87E4-4929-8D49-27062D5A0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BB58-BDD1-43F4-B6E0-BEF32529A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440C-DF19-4CF2-83AA-0FAB68FF4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2C3B-4318-4C3F-92C6-775C44E8E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B4BE-6B16-4613-9560-D09834B9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0B3F-44C4-4EDC-BF04-EB8FC4A0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EF05-BEC3-43E9-B074-BC0DB84A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B6646-7BB5-4F7C-BE0F-3735499671B9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80643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nterview the doct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359000" y="1727280"/>
            <a:ext cx="7218000" cy="145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r special guest is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r. Peter Hu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00720" y="3716280"/>
            <a:ext cx="4464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E3A 495415163   Natal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E3A 495415294   Chi C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E3A 494410916   Ag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E3A 495415189   Ro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87280" y="3716280"/>
            <a:ext cx="3311640" cy="248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308720" y="5079960"/>
            <a:ext cx="1835280" cy="17780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93880" cy="2133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95640" y="350640"/>
            <a:ext cx="517032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ctor’s stereo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-360" y="2216160"/>
            <a:ext cx="814716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851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usually drive a luxury car, buy expensive clothes, and take exotic vacations  because their salary is almost twice as much as oth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851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ve: Doctor are cleverer than other peop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851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ative: They cheat their wives for a young new shiny model, or a nurse whom they work wi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79280" y="333360"/>
            <a:ext cx="450072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ctor Huang’s archive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50920" y="1197000"/>
          <a:ext cx="8497800" cy="5316480"/>
        </p:xfrm>
        <a:graphic>
          <a:graphicData uri="http://schemas.openxmlformats.org/drawingml/2006/table">
            <a:tbl>
              <a:tblPr/>
              <a:tblGrid>
                <a:gridCol w="3116160"/>
                <a:gridCol w="5381640"/>
              </a:tblGrid>
              <a:tr h="121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e"/>
                          </a:solidFill>
                          <a:latin typeface="Arial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eter Hua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86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e"/>
                          </a:solidFill>
                          <a:latin typeface="Arial"/>
                        </a:rPr>
                        <a:t>Gen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e"/>
                          </a:solidFill>
                          <a:latin typeface="Arial"/>
                        </a:rPr>
                        <a:t>National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ilipi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116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e"/>
                          </a:solidFill>
                          <a:latin typeface="Arial"/>
                        </a:rPr>
                        <a:t>Working loc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Tungs‘Taichung MetroHarbor Hospital in Wuch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e"/>
                          </a:solidFill>
                          <a:latin typeface="Arial"/>
                        </a:rPr>
                        <a:t>Speciali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Gastric &amp; Intestin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3640" y="1052280"/>
            <a:ext cx="82803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 algn="just">
              <a:spcBef>
                <a:spcPts val="799"/>
              </a:spcBef>
              <a:buSzPct val="22624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e"/>
                </a:solidFill>
                <a:latin typeface="Arial"/>
              </a:rPr>
              <a:t>Why do you want to be a docto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e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 I want to help humanity and sick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just">
              <a:spcBef>
                <a:spcPts val="799"/>
              </a:spcBef>
              <a:buSzPct val="2364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e"/>
                </a:solidFill>
                <a:latin typeface="Arial"/>
              </a:rPr>
              <a:t>What qualities do you need in your jo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To be a doctor, you need dedication and hard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just">
              <a:spcBef>
                <a:spcPts val="799"/>
              </a:spcBef>
              <a:buSzPct val="2364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e"/>
                </a:solidFill>
                <a:latin typeface="Arial"/>
              </a:rPr>
              <a:t>How many hours do you work everyda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We usually work for 8 hours in the hospital, and sometimes we have duties of night. So sometimes we spent 24 hours in the hospi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268360" y="260280"/>
            <a:ext cx="4321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新細明體"/>
              </a:rPr>
              <a:t>Q &amp; A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新細明體"/>
              <a:ea typeface="新細明體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0560" y="549360"/>
            <a:ext cx="84978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2364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e"/>
                </a:solidFill>
                <a:latin typeface="Arial"/>
              </a:rPr>
              <a:t>Do you have time to enjoy your life such as  buy yourself a good car or take a vac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Our time is always very limited, and we have very little time to enjoyment. Occasionally, I bring my family with a vacation abroad once a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2364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e"/>
                </a:solidFill>
                <a:latin typeface="Arial"/>
              </a:rPr>
              <a:t>What do you like about your jo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Well, my job pays very well. That’s the most import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56908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2364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7e"/>
                </a:solidFill>
                <a:latin typeface="Arial"/>
              </a:rPr>
              <a:t>Had any patient ever told you that they are confident in your abil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7e"/>
                </a:solidFill>
                <a:latin typeface="Arial"/>
              </a:rPr>
              <a:t>  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A: Yes, most of my patients, they are satisfied my ability, so they came bac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2364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7e"/>
                </a:solidFill>
                <a:latin typeface="Arial"/>
              </a:rPr>
              <a:t>If you could choose your profession again, what kind of profession would you choose? Wh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7e"/>
                </a:solidFill>
                <a:latin typeface="Arial"/>
              </a:rPr>
              <a:t>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A: I still want to be a doctor. Because you  get such satisfaction with your patient is getting well in the state or they get better, and you feel satisfied. That’s why I want to be a doc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e4f00"/>
                </a:solidFill>
                <a:latin typeface="Arial"/>
              </a:rPr>
              <a:t>Conclusion─ </a:t>
            </a:r>
            <a:r>
              <a:rPr b="1" lang="en-US" sz="2800" spc="-1" strike="noStrike">
                <a:solidFill>
                  <a:srgbClr val="9e4f00"/>
                </a:solidFill>
                <a:latin typeface="Arial"/>
              </a:rPr>
              <a:t>Points we learn from h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3640" y="1268280"/>
            <a:ext cx="828036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SzPct val="10294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He breaks our stereotypes for doctor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SzPct val="10294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We can see that he doesn’t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wear expensive clothe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SzPct val="10294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He feels satisfied from his patients when they are getting better, so we can know that he is kind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SzPct val="10294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He is a good father, husband, and a good doctor because his patients believe his ability, so they always come back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6421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He wants to help humanity and sick people, so he is not the person who just want to earn mone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Even though he is busy, he also bring his family to take vacations abroad once a year. It can prove that he loves his family very muc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We know that he really want to be a doctor because he can feel satisfied from his patien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050920" y="1638360"/>
            <a:ext cx="5220000" cy="52196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s for your atten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8T12:33:00Z</dcterms:created>
  <dc:creator>Acer</dc:creator>
  <dc:description/>
  <dc:language>en-US</dc:language>
  <cp:lastModifiedBy>TIGER-XP</cp:lastModifiedBy>
  <dcterms:modified xsi:type="dcterms:W3CDTF">2009-05-01T14:03:05Z</dcterms:modified>
  <cp:revision>37</cp:revision>
  <dc:subject/>
  <dc:title>vocation</dc:title>
</cp:coreProperties>
</file>